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D71D-5020-4781-81E3-2A2F8CEAC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6A60-4FB3-43C6-9AC4-A5C5070583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F0C-FDF0-41FA-A788-A065D3087E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A545-2467-4495-A94B-468410D5EF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EE8A-BBB7-4B23-B568-08C5CE982B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4F20-AE22-4013-A4C4-B464B10FD7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229-F189-4D06-B966-8442A16BD1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5130-90A2-41F3-ADCB-4FBDFC61AC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6A3E-F3E4-4B05-921D-E6BF188CE8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91DB-3338-4702-AFE6-0E8A212FC0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BB1D-E70E-4B3D-9B1B-5BFCD3E541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8FC9-0D13-4CE0-BC9C-587E9BDC12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7F48-6ECB-490C-A29B-F60F8306681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0507-D8E8-4F55-86C2-AA95D1B399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7FD3-B7D9-494B-8278-139EA6E5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6BDDE-5A7E-48AB-8D1D-46CBF518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5153-76AF-41BB-B10C-5AA1B6CA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3E58-9497-4A63-A872-B247D67D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BDC5-7AEA-40FF-9E4A-537C5E34E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924E-5E15-4F0A-AEE1-E118839D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1C9E-929F-4D7A-8647-728C8E9E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44C1-B478-4D19-AA22-27A03E26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587C-00A0-40CD-B8FC-D987F181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34AB-01E1-4881-A786-3E074D4F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190E-9AB4-43C6-8E99-8085522F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FA437-51FD-4729-8916-D2B047D6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C8FE-7190-49BE-B511-FAFC6E9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6F8C-2980-43D3-999F-6F62450D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79C4-AF9D-4453-9947-4E880E05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4F32-47EA-43A3-9A75-007EA668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943C-CBDC-489C-A940-56F6E658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89D9-B48F-4918-8C3B-1DEF6B60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8D2E-309F-4D23-9F71-82C889B2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2B5E-E7B2-4320-98D8-664775C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0A7E5-0612-49C3-8957-06E872BD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92B1F-1D1A-4F78-9D13-5F2A5DE3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5536-4890-40DA-A222-9EED78CD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AAEF-5B2A-4D2F-97AA-9A36162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C89C-D71F-4E88-B02A-1F98A2A6E1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8123-8605-4418-BF9E-086DEA92FE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Lecture#2 on Internet and World Wide Web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Software 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pplication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nstructs message with add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ansport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hops message into pa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twork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ndles routing through the Intern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ink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andles actual transmission of pack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Interne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ftware lay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Picture 3" descr="fig_04_13"/>
          <p:cNvPicPr/>
          <p:nvPr/>
        </p:nvPicPr>
        <p:blipFill>
          <a:blip r:embed="rId1">
            <a:grayscl/>
          </a:blip>
          <a:stretch/>
        </p:blipFill>
        <p:spPr>
          <a:xfrm>
            <a:off x="3505320" y="1523880"/>
            <a:ext cx="148104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llowing a message through the Intern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0" name="Picture 3" descr="fig_04_14"/>
          <p:cNvPicPr/>
          <p:nvPr/>
        </p:nvPicPr>
        <p:blipFill>
          <a:blip r:embed="rId1">
            <a:grayscl/>
          </a:blip>
          <a:stretch/>
        </p:blipFill>
        <p:spPr>
          <a:xfrm>
            <a:off x="1295280" y="1371600"/>
            <a:ext cx="617220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cur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lware (viruses, worms, Trojan horses, spyware, phishing softwar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nial of serv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tec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ewa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am fil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xy Serv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virus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ectronic Mail (emai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main mail server collects incoming mail and transmits outing mai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ile Transfer Protocol (FT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a standard protocol used to exchange and manipulate files over inter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s purpose is to remotely share files and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oice Over IP (VoI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IP (voice over IP) is an IP telephony term for a set of facilities used to manage the delivery of voice information over the Intern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ln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program that runs over your PC and connects it to a server on the network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can enter commands using Telnet program and they will be executed as if you were directly entering them on the server command prom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allows you to control the server and communicate with other servers on the networ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net Applic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ld Wide W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, is a way of accessing information over the medium of the Internet. It is an information-sharing model that is built on top of the Interne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uses HTTP(HyperText Transfer Protocol) for commun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uses Web Browsers such as Internet Explorer. Firefox etc. to  send data from one end to another e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orld Wide Web (continu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page is a document that needs to be fetc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rowser gets documents from Web ser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b Server is the place where web pages are stored/hos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s identified by Uniform Resource Loca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e Web Work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ke Internet communications, the Web relies on protocols to ensure that pages are accessible to any compu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erText Markup Language (HTML) defines the form of Web page cont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yperText Transfer Protocol (HTTP) defines how messages exchanged between browsers and servers are formatt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refix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http://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in a URL specifies that the HTTP protocol is to be used in communicating with the ser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994320" indent="-19872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 prefix is NOT used for local file access since no server communication is necessar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Web Work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 efficiency reasons, browsers will sometimes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ac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ages/im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avoid redundant downloads, the browser will store a copy of a page/image on the hard drive (along with a time stamp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ext time the page/image is requested, it will first check the cac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a copy is found, it sends a </a:t>
            </a: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conditional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request to the serv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ssentially: "send this page/image only if it has been changed since the timestamp"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f the server copy has not changed, the server sends back a brief message and the browser simply uses the cached cop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typical UR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3" descr="fig_04_06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2166840"/>
            <a:ext cx="8229600" cy="33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ckage-shipping examp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4" name="Picture 3" descr="fig_04_12"/>
          <p:cNvPicPr/>
          <p:nvPr/>
        </p:nvPicPr>
        <p:blipFill>
          <a:blip r:embed="rId1">
            <a:grayscl/>
          </a:blip>
          <a:stretch/>
        </p:blipFill>
        <p:spPr>
          <a:xfrm>
            <a:off x="304920" y="2057400"/>
            <a:ext cx="8601120" cy="3621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5:21:41Z</dcterms:created>
  <dc:creator>ZOHAIR</dc:creator>
  <dc:description/>
  <dc:language>en-US</dc:language>
  <cp:lastModifiedBy>Asma Sanam Larik</cp:lastModifiedBy>
  <dcterms:modified xsi:type="dcterms:W3CDTF">2009-12-07T02:49:18Z</dcterms:modified>
  <cp:revision>45</cp:revision>
  <dc:subject/>
  <dc:title>Lecture on Internet</dc:title>
</cp:coreProperties>
</file>