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4FE4-F822-4BB2-90B9-D32B1D56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DF99-E468-4C4A-91FC-0D33B94B28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1A9A-947F-4BD0-8298-9DAE908BDA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673-56B6-43BB-AB1E-1B4CF7DED6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27B3-1EEB-45DA-A199-9757A10772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C57-202A-4EBA-B9A3-1E0ABC7235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4587-06CF-40AC-A3A6-57F3FA3DF0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A8D-5AA6-4CFB-92B9-06BE080350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554E-A379-4D1F-B880-8D5D0E3850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D22-E8A2-48C8-9896-FA16F5C99A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437-B3F9-4430-AE42-2822B2E5C8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8C4-D204-4C61-8EB6-236B7D0EBC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01C1-54E2-4010-9917-535E6815DD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F4E7-372D-4CAB-A3C3-6FDBAF18C2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E34E-D9F6-4DDC-84A2-96917475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9DFF-EFD8-4D94-9E25-F9A4E0E6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8BFD-30B9-4CE6-866D-D55D982B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673E-3055-4868-8726-8C9A85CC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A7A5-668F-4522-B11B-652A101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1CAC-4D5E-4741-A24A-BD3694F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175-DEE8-4C92-951D-6E60062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20A-CE8E-4B8A-9198-F6F1389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65C-616C-412C-8FB8-16629114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4700-CC9E-4439-A68D-AB4CA77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4CDC-FFAA-4821-A357-ADE47AE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B898-546B-4412-BCBF-290EB37C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B54E-A916-4F44-A5AF-E41821A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ECC7-46A6-4A92-8B42-8421A34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EB2-10D1-4DF5-A20D-158880F0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662-217B-4B26-AFF2-013FF16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A075-9C10-4DA6-8481-3C3BCE01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4DBF-88A7-4B0E-A1FF-EFD50FD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0F2E-7143-4FFA-91F9-C1FC7DAB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32A8-65C3-4812-A87D-6FD9A9EC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766C-FD48-4F3E-AB6D-BBEF7A1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9BF4-077D-47F0-A7D9-CBB0127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599B-78F2-4FD3-9B89-5C07E1A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BBD8-6879-415E-AE8A-CD6996D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7CB2-8B42-49B5-B952-026B80F78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72C-57FB-45BD-AA9F-2347419F6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2 on Internet and World Wide Web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lic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nstructs message with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or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ps message into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routing through the Inter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actual transmission of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terne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3" descr="fig_04_13"/>
          <p:cNvPicPr/>
          <p:nvPr/>
        </p:nvPicPr>
        <p:blipFill>
          <a:blip r:embed="rId1">
            <a:grayscl/>
          </a:blip>
          <a:stretch/>
        </p:blipFill>
        <p:spPr>
          <a:xfrm>
            <a:off x="3505320" y="1523880"/>
            <a:ext cx="14810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llowing a message through the Intern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" descr="fig_04_14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371600"/>
            <a:ext cx="6172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u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ware (viruses, worms, Trojan horses, spyware, phishing softwa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e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 fil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virus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ectronic Mail (emai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mail server collects incoming mail and transmits outing ma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le Transfer Protocol (FT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 standard protocol used to exchange and manipulate files over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purpose is to remotely share files an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oice Over IP (VoI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IP (voice over IP) is an IP telephony term for a set of facilities used to manage the delivery of voice information over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rogram that runs over your PC and connects it to a server on the networ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nter commands using Telnet program and they will be executed as if you were directly entering them on the server command prom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allows you to control the server and communicate with other servers on the net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, is a way of accessing information over the medium of the Internet. It is an information-sharing model that is built on top of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uses HTTP(HyperText Transfer Protocol) for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uses Web Browsers such as Internet Explorer. Firefox etc. to  send data from one end to another e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ide Web (continu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page is a document that needs to be fet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wser gets documents from Web ser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Server is the place where web pages are stored/hos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s identified by Uniform Resource Loc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e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Internet communications, the Web relies on protocols to ensure that pages are accessible to any compu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Markup Language (HTML) defines the form of Web page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Transfer Protocol (HTTP) defines how messages exchanged between browsers and servers are format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ttp://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n a URL specifies that the HTTP protocol is to be used in communicating with the ser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is NOT used for local file access since no server communication is necess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fficiency reasons, browsers will sometime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c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ges/im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void redundant downloads, the browser will store a copy of a page/image on the hard drive (along with a time stam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time the page/image is requested, it will first check the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 copy is found, it sends a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onditiona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quest to the ser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sentially: "send this page/image only if it has been changed since the timestamp"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the server copy has not changed, the server sends back a brief message and the browser simply uses the cached cop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UR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fig_04_06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age-shipping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3" descr="fig_04_12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2057400"/>
            <a:ext cx="8601120" cy="362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7T02:49:18Z</dcterms:modified>
  <cp:revision>45</cp:revision>
  <dc:subject/>
  <dc:title>Lecture on Internet</dc:title>
</cp:coreProperties>
</file>