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9A03E-887E-41E5-8AA5-6FDF876FA7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57EDE-C6F0-4EF4-9721-63B0341D47B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A0AEC-DB96-40B3-83CF-1374E456695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B8378-8783-44B7-A5B6-FD3FB72E033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42998-5E28-4D04-B016-ECF331EBEBF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2229C-7B25-4144-AEFD-9599BDADDF7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9B114-4AA6-4972-A324-1DD0665828F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FC0BE-EF35-45E4-AE58-97B7EFC318C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4D88D-8E11-4D3A-B500-981CD7D3506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D5833-D538-42F6-9F63-C967CB93C98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57D2D-E296-437F-9E76-31650DB0ACC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77C92-304E-41D1-8889-E5EDC6336A1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A0A17-457C-465A-BBD5-4BEC6F2BF7A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E487C-C614-4FBC-BD6A-DEB83109423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906C4-AE3B-41D3-AA05-8098A9C2C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5C8FF-E4F9-48AE-95CC-1E320DF74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CAD62-BEFD-4358-B821-F945BCA3C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A7C1B-0CD9-4073-A8C0-221CCF5B0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36420-0309-4030-91C0-6F54B7DE0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30DF5-9491-49D8-9848-227C2965C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41118-65F9-412E-AE2A-B08931F87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4DC99-052E-4BCF-9314-63D8BD009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CA58F-4B4E-4ACD-ABF2-32790DBA0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1915C-B187-4E50-8ED2-0E35B0B4A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B63D0-DD03-4FC2-A45B-CEC76C80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159E1-ABA4-4007-907A-A0E99055F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871F3-0EB1-4C37-902D-8DBA73D4D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A4C57-E131-4BCF-947A-822F9416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4D0A6-B623-42ED-88BD-6254469F2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2FA50-AC29-454C-93F3-26A3E4A3E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5521E-F2E8-4BEA-BD20-B59770100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48EB0-FC3C-48D6-8117-B33263B17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DE3E9-3ECC-496A-ACC4-12EE3B71D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673F3-6529-4634-900E-BDDCD9829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F37E0-8B13-4692-A25B-349697882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47256-ADF5-4921-8FA7-CC731213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D28BB-6A19-43F4-A11B-C451E61B5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6A619-232E-4242-9C1C-79AE70D00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914EA-D099-48C4-A49F-765B22F6F88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32790-F1D6-4C64-8C75-A21F214E484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Lecture#2 on Internet and World Wide Web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ternet Software Lay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pplication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Constructs message with addres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ransport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Chops message into packe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Network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Handles routing through the Intern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ink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Handles actual transmission of packe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Internet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oftware lay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8" name="Picture 3" descr="fig_04_13"/>
          <p:cNvPicPr/>
          <p:nvPr/>
        </p:nvPicPr>
        <p:blipFill>
          <a:blip r:embed="rId1">
            <a:grayscl/>
          </a:blip>
          <a:stretch/>
        </p:blipFill>
        <p:spPr>
          <a:xfrm>
            <a:off x="3505320" y="1523880"/>
            <a:ext cx="148104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ollowing a message through the Interne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0" name="Picture 3" descr="fig_04_14"/>
          <p:cNvPicPr/>
          <p:nvPr/>
        </p:nvPicPr>
        <p:blipFill>
          <a:blip r:embed="rId1">
            <a:grayscl/>
          </a:blip>
          <a:stretch/>
        </p:blipFill>
        <p:spPr>
          <a:xfrm>
            <a:off x="1295280" y="1371600"/>
            <a:ext cx="6172200" cy="512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ecurit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ttack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lware (viruses, worms, Trojan horses, spyware, phishing softwar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nial of servi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pa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tec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irew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pam fil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xy Serv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tivirus softwa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ternet Applic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lectronic Mail (email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main mail server collects incoming mail and transmits outing mail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File Transfer Protocol (FTP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t is a standard protocol used to exchange and manipulate files over interne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ts purpose is to remotely share files and softwa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Voice Over IP (VoIP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oIP (voice over IP) is an IP telephony term for a set of facilities used to manage the delivery of voice information over the Interne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ternet Applic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eln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program that runs over your PC and connects it to a server on the network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You can enter commands using Telnet program and they will be executed as if you were directly entering them on the server command promp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is allows you to control the server and communicate with other servers on the network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ternet Applic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World Wide Web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eb, is a way of accessing information over the medium of the Internet. It is an information-sharing model that is built on top of the Interne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t uses HTTP(HyperText Transfer Protocol) for commun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eb uses Web Browsers such as Internet Explorer. Firefox etc. to  send data from one end to another end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orld Wide Web (continue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eb page is a document that needs to be fetch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rowser gets documents from Web serv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eb Server is the place where web pages are stored/host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cuments identified by Uniform Resource Locato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e Web Works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ike Internet communications, the Web relies on protocols to ensure that pages are accessible to any comput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yperText Markup Language (HTML) defines the form of Web page cont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yperText Transfer Protocol (HTTP) defines how messages exchanged between browsers and servers are formatt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94320" indent="-19872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prefix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http://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in a URL specifies that the HTTP protocol is to be used in communicating with the serv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994320" indent="-19872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prefix is NOT used for local file access since no server communication is necessar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Web Works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or efficiency reasons, browsers will sometimes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ache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pages/imag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 avoid redundant downloads, the browser will store a copy of a page/image on the hard drive (along with a time stamp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next time the page/image is requested, it will first check the cach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20772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if a copy is found, it sends a </a:t>
            </a: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conditional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request to the serve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3" marL="1455840" indent="-207720"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essentially: "send this page/image only if it has been changed since the timestamp"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3" marL="1455840" indent="-207720"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if the server copy has not changed, the server sends back a brief message and the browser simply uses the cached copy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 typical UR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Picture 3" descr="fig_04_06"/>
          <p:cNvPicPr/>
          <p:nvPr/>
        </p:nvPicPr>
        <p:blipFill>
          <a:blip r:embed="rId1">
            <a:grayscl/>
          </a:blip>
          <a:stretch/>
        </p:blipFill>
        <p:spPr>
          <a:xfrm>
            <a:off x="457200" y="2166840"/>
            <a:ext cx="8229600" cy="339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ckage-shipping exampl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4" name="Picture 3" descr="fig_04_12"/>
          <p:cNvPicPr/>
          <p:nvPr/>
        </p:nvPicPr>
        <p:blipFill>
          <a:blip r:embed="rId1">
            <a:grayscl/>
          </a:blip>
          <a:stretch/>
        </p:blipFill>
        <p:spPr>
          <a:xfrm>
            <a:off x="304920" y="2057400"/>
            <a:ext cx="8601120" cy="3621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15:21:41Z</dcterms:created>
  <dc:creator>ZOHAIR</dc:creator>
  <dc:description/>
  <dc:language>en-US</dc:language>
  <cp:lastModifiedBy>Asma Sanam Larik</cp:lastModifiedBy>
  <dcterms:modified xsi:type="dcterms:W3CDTF">2009-12-07T02:49:18Z</dcterms:modified>
  <cp:revision>45</cp:revision>
  <dc:subject/>
  <dc:title>Lecture on Internet</dc:title>
</cp:coreProperties>
</file>