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539A-FE0E-4E15-BB86-B6998E72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CD9-EC29-47BE-AFB4-8EF6B33610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BF6-C210-45CA-B0CF-BDC9C49AB6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8CB-B1F1-4DFC-9CFB-4EFF2C8F8D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C312-9C99-45C7-9E51-E53BCF576F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193A-12C9-4EC3-953D-A16002E5FF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FF1-87C9-4D42-ABE7-1747F9BFE1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DC4-79C3-4A51-8967-AAF6EB4DD4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037-0BE2-488D-BE2A-7FBF180AA0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5512-501C-4132-A86E-C6D817B52A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1D85-AB00-422C-9F0B-CFFADCD0EA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478-8EAA-4D37-8B97-9052542D65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803E-8E61-434B-8E43-AE4B5460D7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A248-4837-4F8B-ACBE-BFC083C3A7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D076-FBD1-4892-9B09-20EA2A4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8FC2-4F00-46AD-BA48-4F3E575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0817-1B67-4FDB-909B-194E98DD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0097-DF84-45C1-B6DF-D950A884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28A0-E70D-40A9-A64C-5C408B1F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3502-B78E-45A9-9218-79938B2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B48-30AF-4ABD-A730-2DAB056A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5AB4-6B26-4280-9FDB-9F1B7FDE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269-BEB5-4162-953B-5834793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A66-515B-4F7C-88AC-B25CB62F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9D8-A99D-40FE-8836-AC064B3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865B-4F8B-4547-AC3E-30134248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DD75-8825-40B0-9E12-9D7BE00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01FA-BAB7-43E7-AE35-95E9716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462E-F38A-4E8A-AC50-2B154B2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CFE1-9F88-4C06-A272-A01172B5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2BD5-017B-4BB7-9439-87AE1EE1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2835-732E-49EA-873A-ECBE3C6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673E-E29E-4AC9-8FB9-C556530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3B90-4EB3-420F-8D0C-EAD5230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CE72-F142-47EC-8363-C9356ACE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1769-D551-4FC4-A358-2F620B3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805E-2FEA-4E66-BBEB-1004CEC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2529-7F30-4776-81AC-1B2D925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679-6A19-4246-AB99-F1B7E18284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25D-D995-45A1-BCC2-AEC1F995B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2 on Internet and World Wide Web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lic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nstructs message with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ort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ops message into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twor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routing through the Inter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actual transmission of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Interne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3" descr="fig_04_13"/>
          <p:cNvPicPr/>
          <p:nvPr/>
        </p:nvPicPr>
        <p:blipFill>
          <a:blip r:embed="rId1">
            <a:grayscl/>
          </a:blip>
          <a:stretch/>
        </p:blipFill>
        <p:spPr>
          <a:xfrm>
            <a:off x="3505320" y="1523880"/>
            <a:ext cx="14810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llowing a message through the Intern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" descr="fig_04_14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371600"/>
            <a:ext cx="617220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ur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lware (viruses, worms, Trojan horses, spyware, phishing softwa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ial of serv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ew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 fil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virus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ectronic Mail (emai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mail server collects incoming mail and transmits outing mai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le Transfer Protocol (FT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a standard protocol used to exchange and manipulate files over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purpose is to remotely share files an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oice Over IP (VoI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IP (voice over IP) is an IP telephony term for a set of facilities used to manage the delivery of voice information over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l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rogram that runs over your PC and connects it to a server on the network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enter commands using Telnet program and they will be executed as if you were directly entering them on the server command prom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allows you to control the server and communicate with other servers on the net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ld Wide W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, is a way of accessing information over the medium of the Internet. It is an information-sharing model that is built on top of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uses HTTP(HyperText Transfer Protocol) for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uses Web Browsers such as Internet Explorer. Firefox etc. to  send data from one end to another e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Wide Web (continu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page is a document that needs to be fet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wser gets documents from Web ser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Server is the place where web pages are stored/hos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s identified by Uniform Resource Loc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e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Internet communications, the Web relies on protocols to ensure that pages are accessible to any compu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Markup Language (HTML) defines the form of Web page 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Transfer Protocol (HTTP) defines how messages exchanged between browsers and servers are format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ttp://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n a URL specifies that the HTTP protocol is to be used in communicating with the ser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is NOT used for local file access since no server communication is necess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fficiency reasons, browsers will sometime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c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ges/im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void redundant downloads, the browser will store a copy of a page/image on the hard drive (along with a time stam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xt time the page/image is requested, it will first check the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a copy is found, it sends a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onditiona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request to the ser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sentially: "send this page/image only if it has been changed since the timestamp"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the server copy has not changed, the server sends back a brief message and the browser simply uses the cached cop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UR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fig_04_06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166840"/>
            <a:ext cx="822960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age-shipping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3" descr="fig_04_12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2057400"/>
            <a:ext cx="8601120" cy="362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7T02:49:18Z</dcterms:modified>
  <cp:revision>45</cp:revision>
  <dc:subject/>
  <dc:title>Lecture on Internet</dc:title>
</cp:coreProperties>
</file>