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6A38-E8B5-4AD3-893C-0B9563BA1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BFB5-5CC1-453B-9D77-107C187A1C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3F27-7AB9-4128-9941-913015D96B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89A-1C24-4892-BC79-090E5E79792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C0AC-75BF-4630-B299-17025C733F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CC1E-743F-47DB-B3F0-4A9054A5D5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142E-9F5B-41E7-9932-665397D1ABD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AB1-7B65-4A2C-A14B-714D32B9EF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7B16-399B-4F2A-B50F-19D149D272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F6A0-7E42-4C89-BCB3-80C66A9DBC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501-F68D-4FB6-84D4-A8F14C61D8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17D-6C9B-453B-9005-1DF24BC1347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C11A-81DE-407D-858C-E4FA067DE26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0689C-BD72-4DB7-BB59-48EEBCB2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088E-E454-4B23-BA0D-085BCA6E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B8EB-DC48-4693-88E2-760AC439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63C4-2810-4A39-86E8-438B7783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186-BDF4-490F-AA69-039F88EB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A433-9CDA-4EA1-9FD8-FFB1FE36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2E2-24E4-4F83-A44B-4CCDCAE7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D382-ED82-475D-B91D-2BFFEB13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4D3-20C5-4774-90A0-AC20A824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8E58-314A-45BB-AFCA-5EAB3F25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7B68-8DA2-411E-A892-7F349459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D471-3E29-43B7-8093-F8FC2BE6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472A-DE2C-4C21-BA9E-3DC143A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1EC6-19B8-40A7-BBD5-2125D570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B1C7-03EC-4C98-8370-71FA289E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456-45D3-47C7-9E17-684A8688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F1BC-F67C-41EC-8C7A-B65D7CBD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7079-887C-4F5E-8371-69C72F18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2FCE-C577-4BCD-9345-8BE5D952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652A-65C9-44CB-BAE9-ED21AE80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FB16-0B65-49CB-B899-D7BCFE72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BDCE-A506-4896-9D7F-B5418C6A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06EB-35DE-4705-A7B9-0DF6451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92D2-0B54-4A2F-89A5-79927EC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E08-6518-4C48-820A-FA001F82F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0CF8-9DD5-4807-8125-D1C3085616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P/server.htm" TargetMode="External"/><Relationship Id="rId2" Type="http://schemas.openxmlformats.org/officeDocument/2006/relationships/hyperlink" Target="http://www.webopedia.com/TERM/P/clien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1 on Interne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tocols and Addr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744200"/>
            <a:ext cx="8229600" cy="15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allows different types of computers from around the world to communica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s is possible because the computing community agreed upon common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rotocol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(sets of rules that describe how communication takes pla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36840" indent="-2894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two central protocols that control Internet communication ar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ransmission Control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TC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55440" indent="-260640">
              <a:lnSpc>
                <a:spcPct val="80000"/>
              </a:lnSpc>
              <a:spcBef>
                <a:spcPts val="675"/>
              </a:spcBef>
              <a:buClr>
                <a:srgbClr val="e5e5ff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nternet Protocol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IP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35812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se protocols rely on each computer having a unique identifier (known as an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IP addres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street address + zip code provide unique address for your house/dor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76520" indent="-304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using this address, anyone in the world can send you a let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 IP address is a number, written as a dotted sequence such as 147.134.2.84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ch computer is assigned an IP address by its Internet Service Provider (ISP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838080" indent="-3808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me ISPs (e.g., AOL, most colleges) maintain a pool of IP addresses and assign them dynamically to computers each time they connec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CP/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ssion Control Protocol (TC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trols the method by which messages are broken down into packets and then reassembled when they reach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net Protocol (IP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34960" indent="-20556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ncerned with labeling the packets for delivery and controlling the packets’ paths from sender to recipi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46960">
              <a:spcBef>
                <a:spcPts val="22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2057400" y="3514680"/>
            <a:ext cx="49626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outers and D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Internet relies on special purpose computers in the net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router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re computers that receive packets, access the routing information, and pass the packets on toward their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49720" indent="-2113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omain name servers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e computers that store mappings between domain names and IP address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Garamond"/>
              </a:rPr>
              <a:t>domain names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are hierarchical names for computers (e.g., bluejay.creighton.edu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3" marL="1184040" indent="-1688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they are much easier to remember and type than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2" marL="845640" indent="-168840"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domain name servers translate the names into their corresponding IP address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057400" y="4191120"/>
            <a:ext cx="4896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ddress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P address: pattern of 32 or 128 bits often represented in dotted decimal n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emonic addres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nam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p-Level Domai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main name system (D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NS look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Corporation for Assigned Names &amp; Numbers (ICANN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ocates IP addresses to ISPs who then assign those addresses within their reg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sees the registration of domains and domain na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xy Ser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hat sits between 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client applica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such as a Web browser, and a real server. It intercepts all requests to the real server to see if it can fulfill the requests itself. If not, it forwards the request to the real serv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mprove Perform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Proxy servers can dramatically improve performance for groups of users. This is because it saves the results of all requests for a certain amount of time. Consider the case where both user X and user Y access the World Wide Web through a proxy server. First user X requests a certain Web page, which we'll call Page 1. Sometime later, user Y requests the same page. Instead of forwarding the request to the Web server where Page 1 resides, which can be a time-consuming operation, the proxy server simply returns the Page 1 that it already fetched for user X. Since the proxy server is often on the same network as the user, this is a much faster opera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wo Purpos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lter Requests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roxy servers can also be used to filter requests. For example, a company might use a proxy server to prevent its employees from accessing a specific set of Web sit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stributed Network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design of the ARPANet was influenced by the ideas of Paul Baran, a researcher at the RAND Institu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ran proposed 2 key ideas: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distributed network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packet-switch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all: the ARPANet was funded by the Dept of Defense for communic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579240" indent="-222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s such, it needed to be resistant to attack or mechanical fail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506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et Switch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a packet-switching network, messages to be sent over the network are first broken into small pieces known as </a:t>
            </a:r>
            <a:r>
              <a:rPr b="0" i="1" lang="en-US" sz="2000" spc="-1" strike="noStrike">
                <a:solidFill>
                  <a:srgbClr val="ffffff"/>
                </a:solidFill>
                <a:latin typeface="Garamond"/>
              </a:rPr>
              <a:t>packe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se packets are sent independently to their final destina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0" r="0" b="391"/>
          <a:stretch/>
        </p:blipFill>
        <p:spPr>
          <a:xfrm>
            <a:off x="1066680" y="2590920"/>
            <a:ext cx="6820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antages of Packe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nding information in smaller units increases the efficient use of conne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arge messages can't monopolize the connect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analogy: limiting call lengths at a pay phone to limit wai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ansmitting packets independently allows the network to react to failures or network conges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outers (special-purpose computers that direct the flow of messages) can recognize failures or congestion and reroute the packet around trouble are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88440" indent="-38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reaking the message into packets can improve reliabil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nce the packets are transmitted independently, it is likely that at least part of the message will arrive (even if some failures occur within the network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2080" indent="-32364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oftware at the destination can recognize which packets are missing and request retransmissio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3T09:05:02Z</dcterms:modified>
  <cp:revision>20</cp:revision>
  <dc:subject/>
  <dc:title>Lecture on Internet</dc:title>
</cp:coreProperties>
</file>