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6C78-4F1E-4708-B89B-0944C39E5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1F98-7E52-453E-83AE-D737B2D274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88BA-E02C-4AA1-A8AE-C3EC21A7CF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F9F-F252-4AA4-A894-552C848E75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491B-9613-4139-B2C9-87A8470A31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63D4-3A29-4112-B0D5-B187169D3C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76DB-6DE8-46C6-9E06-9F80BAA5DA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C12-807F-456C-8FF6-FD9934EAA2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7683-109E-4721-A685-5118240C36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0668-CAE2-43ED-B4C2-23F9CD2322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244-ABD8-44FE-A378-42DA976EA0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2362-22F7-4C2A-A66A-E7528DC46A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C06C-8309-4F48-9958-C45771F3DA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06C4-7F93-4F92-9FBB-5D69606A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4FDC-E86C-4D71-9001-F059D118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A582-F1ED-42F5-91D9-F6E43168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AE2A-9241-476D-9C34-7FA301EB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6399-3909-4D06-B356-7DD5F52A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E19-4378-4E47-9E0C-4B6DC61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A0EB-4506-416B-A31D-09C854C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46AA-97E0-49E5-8CCE-C1F3EF5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BD0-E98F-48D6-8DE6-4FFBB945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6EAE-7CFE-413C-9085-1EA4DF9A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F5E5-3308-4149-A144-82FDB48C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7D29-7DC5-4E0D-B7FA-C335F97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41BC-8550-4222-85E1-64A120B6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80D-C944-4B23-B0A4-4DB45510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3095-B3B9-437A-B3AD-90FD02A8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BF30-EC40-466C-A941-D9186861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4545-9FE8-4B82-8D3C-30AAA9F5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21EB-B2E6-4820-926C-1A5FE89C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0D90-C5F6-4403-877A-5C2A20E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820E-3631-4CAF-9036-E7DA4560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7614-566C-4553-A63E-C00B6FEE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53A7-FEE9-4727-A72F-A8C8F67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647D-4D63-4655-B9E1-03BA768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9689-B77B-4B9C-A036-405C0743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0C78-8B81-4010-930B-661910890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87B9-4B22-4A10-BA24-0151233E8D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P/server.htm" TargetMode="External"/><Relationship Id="rId2" Type="http://schemas.openxmlformats.org/officeDocument/2006/relationships/hyperlink" Target="http://www.webopedia.com/TERM/P/clien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1 on Interne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tocols and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74420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allows different types of computers from around the world to communic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possible because the computing community agreed upon common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rotocol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sets of rules that describe how communication takes pla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two central protocols that control Internet communication a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ransmission Control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C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nternet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se protocols rely on each computer having a unique identifier (known as a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P addres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street address + zip code provide unique address for your house/dor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76520" indent="-304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using this address, anyone in the world can send you a let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IP address is a number, written as a dotted sequence such as 147.134.2.8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computer is assigned an IP address by its Internet Service Provider (ISP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me ISPs (e.g., AOL, most colleges) maintain a pool of IP addresses and assign them dynamically to computers each time they connec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CP/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ssion Control Protocol (TC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rols the method by which messages are broken down into packets and then reassembled when they reach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net Protocol (I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cerned with labeling the packets for delivery and controlling the packets’ paths from sender to recipi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057400" y="3514680"/>
            <a:ext cx="4962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uters and D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relies on special purpose computers in the net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router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re computers that receive packets, access the routing information, and pass the packets on toward their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omain name server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e computers that store mappings between domain names and IP address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omain name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are hierarchical names for computers (e.g., bluejay.creighton.edu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3" marL="1184040" indent="-1688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hey are much easier to remember and type than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omain name servers translate the names into their corresponding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9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ddres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P address: pattern of 32 or 128 bits often represented in dotted 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emonic addres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n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-Level Dom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ain name system (D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S look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Corporation for Assigned Names &amp; Numbers (ICAN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cates IP addresses to ISPs who then assign those addresses within their reg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sees the registration of domains and domain n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xy Ser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sits between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client applic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such as a Web browser, and a real server. It intercepts all requests to the real server to see if it can fulfill the requests itself. If not, it forwards the request to the real serv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mprove Perform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oxy servers can dramatically improve performance for groups of users. This is because it saves the results of all requests for a certain amount of time. Consider the case where both user X and user Y access the World Wide Web through a proxy server. First user X requests a certain Web page, which we'll call Page 1. Sometime later, user Y requests the same page. Instead of forwarding the request to the Web server where Page 1 resides, which can be a time-consuming operation, the proxy server simply returns the Page 1 that it already fetched for user X. Since the proxy server is often on the same network as the user, this is a much faster opera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ter Request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xy servers can also be used to filter requests. For example, a company might use a proxy server to prevent its employees from accessing a specific set of Web sit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ed Network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design of the ARPANet was influenced by the ideas of Paul Baran, a researcher at the RAND Instit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an proposed 2 key ideas: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istributed network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cket-switch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all: the ARPANet was funded by the Dept of Defense for communic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s such, it needed to be resistant to attack or mechanical fail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t Switc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 packet-switching network, messages to be sent over the network are first broken into small pieces known a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ck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se packets are sent independently to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 of Pac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nding information in smaller units increases the efficient use of connec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rge messages can't monopolize the connec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limiting call lengths at a pay phone to limit wai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tting packets independently allows the network to react to failures or network conges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outers (special-purpose computers that direct the flow of messages) can recognize failures or congestion and reroute the packet around trouble are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eaking the message into packets can improve reliabi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nce the packets are transmitted independently, it is likely that at least part of the message will arrive (even if some failures occur within the network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ftware at the destination can recognize which packets are missing and request retransmi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3T09:05:02Z</dcterms:modified>
  <cp:revision>20</cp:revision>
  <dc:subject/>
  <dc:title>Lecture on Internet</dc:title>
</cp:coreProperties>
</file>