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07E-4299-4FDD-A44E-4275841D9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3C8A-0109-4D3E-A569-08F17FEEF46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53C3-DBAD-4974-A6EE-21991E78F56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D2E1-222C-4607-B937-9A1D192E24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FDC4-56D6-457E-99A3-063F934840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0E63-2F4E-478B-B81E-0C114F50434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8B0C-9F23-434F-B14C-B6830B4885A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42AE-6BDF-4F63-ABD1-E2F9111C62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86C7-97DE-4548-9C2A-48D165627C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4486-297E-4D4B-9ACA-BF87BE3F1C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E48A-47CC-4DEE-B3AE-E2F5DFFEA7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4364-F99D-4778-AD27-0C8BBC722F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5EC7-BCAE-4870-A827-F3486ED6062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78557-C17F-4EB6-B278-F0592F0F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5DFA-0A0D-41B1-8F82-F8DB0BBE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CFA0-F2F3-4997-9F96-509251C9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C73F-19D1-4B3D-94E7-504C4F4BB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D776-9B3A-4BC0-B581-8D7E7BDF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85EE-42D5-4D3C-9FF8-20AE39CE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3978-BDA7-4540-B29A-F4E11C72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559C-E6ED-4366-A02F-DF2E0F1C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1C42-C5DA-4EFC-8618-A83D047D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D03E-9979-4BD1-BCC8-34E10F3B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7318-A58E-4B09-B876-84CAF6A6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16BE-A04B-4923-8AED-59E6A627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63AA-AE95-4A96-B761-7036D87E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764-ACE9-4B70-B540-1A419DE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6EB6-6B08-4805-8DB8-9CE679A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5793-1AC2-4684-A9C5-50D79E86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32A2-B441-4E10-80BA-01F9A9C9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00D3-2D9E-424D-BC0A-3D3E9F8A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6354-1E45-4CDC-8034-E7D4B4A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9F268-67D0-4AE4-95A8-76EAF077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634F-D992-4AFF-A314-6038E43B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842E-A8F4-4B3B-8EBA-9D971735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70E70-9E19-42F4-951E-1BAEDDC6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D428-71F4-4EB9-94B7-56CBCC40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71F7-904C-4283-ACFF-3387E289C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18AC-38FA-49F5-8DA9-F9562803E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P/server.htm" TargetMode="External"/><Relationship Id="rId2" Type="http://schemas.openxmlformats.org/officeDocument/2006/relationships/hyperlink" Target="http://www.webopedia.com/TERM/P/clien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1 on Interne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tocols and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74420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allows different types of computers from around the world to communic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possible because the computing community agreed upon common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rotocol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sets of rules that describe how communication takes pla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two central protocols that control Internet communication a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ransmission Control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C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nternet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se protocols rely on each computer having a unique identifier (known as a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P addres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street address + zip code provide unique address for your house/dor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76520" indent="-304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using this address, anyone in the world can send you a let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IP address is a number, written as a dotted sequence such as 147.134.2.8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computer is assigned an IP address by its Internet Service Provider (ISP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me ISPs (e.g., AOL, most colleges) maintain a pool of IP addresses and assign them dynamically to computers each time they conne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ssion Control Protocol (TC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rols the method by which messages are broken down into packets and then reassembled when they reach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net Protocol (I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cerned with labeling the packets for delivery and controlling the packets’ paths from sender to recipi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057400" y="3514680"/>
            <a:ext cx="4962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uters and D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relies on special purpose computers in the net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router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re computers that receive packets, access the routing information, and pass the packets on toward their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omain name server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e computers that store mappings between domain names and IP address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omain name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are hierarchical names for computers (e.g., bluejay.creighton.edu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3" marL="1184040" indent="-1688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hey are much easier to remember and type than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omain name servers translate the names into their corresponding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9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ddr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P address: pattern of 32 or 128 bits often represented in dotted 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emonic addr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n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-Level Dom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ain name system (D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S look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Corporation for Assigned Names &amp; Numbers (ICAN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cates IP addresses to ISPs who then assign those addresses within their reg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sees the registration of domains and domain n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xy Ser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sits between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lient applic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uch as a Web browser, and a real server. It intercepts all requests to the real server to see if it can fulfill the requests itself. If not, it forwards the request to the real serv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mprove Perform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oxy servers can dramatically improve performance for groups of users. This is because it saves the results of all requests for a certain amount of time. Consider the case where both user X and user Y access the World Wide Web through a proxy server. First user X requests a certain Web page, which we'll call Page 1. Sometime later, user Y requests the same page. Instead of forwarding the request to the Web server where Page 1 resides, which can be a time-consuming operation, the proxy server simply returns the Page 1 that it already fetched for user X. Since the proxy server is often on the same network as the user, this is a much faster opera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ter Request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xy servers can also be used to filter requests. For example, a company might use a proxy server to prevent its employees from accessing a specific set of Web sit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ed Networ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design of the ARPANet was influenced by the ideas of Paul Baran, a researcher at the RAND Instit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an proposed 2 key ideas: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istributed network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cket-switch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all: the ARPANet was funded by the Dept of Defense for communic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s such, it needed to be resistant to attack or mechanical fail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t Switc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 packet-switching network, messages to be sent over the network are first broken into small pieces known a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ck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se packets are sent independently to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 of Pac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ding information in smaller units increases the efficient use of conne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rge messages can't monopolize the conne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limiting call lengths at a pay phone to limit wai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tting packets independently allows the network to react to failures or network conges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outers (special-purpose computers that direct the flow of messages) can recognize failures or congestion and reroute the packet around trouble are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eaking the message into packets can improve reliabi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nce the packets are transmitted independently, it is likely that at least part of the message will arrive (even if some failures occur within the network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ftware at the destination can recognize which packets are missing and request retransmi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3T09:05:02Z</dcterms:modified>
  <cp:revision>20</cp:revision>
  <dc:subject/>
  <dc:title>Lecture on Internet</dc:title>
</cp:coreProperties>
</file>