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96BF-2CF0-40AC-AA62-7295024D5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E259-1F2C-4C2E-B2B2-0EDD90B51A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E5A8-090F-4C21-9DC6-F785A93475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BFA8-BC19-442E-AE9D-61F8A44B64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B995-5A58-40A6-97BC-6CF34D00A44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2235-97C7-4BF7-8596-990B1ED69C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89D9-4C34-4B10-9518-5AF08AD9A1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727E-3F89-467D-BE95-EAE4476170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14E2-349D-4B7C-A73A-9F049E3D22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C3D3-2D07-48C8-9642-71446E8AD9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37C2-5AE5-497B-960E-2C18B745D4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1382-049B-4341-BA06-BA8E52BA07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3CCF-B39E-4034-AA55-5C2C611745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13B6-1AAE-4EC7-8495-3CC48246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9AB6-326B-4797-B526-E24B2A97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316B-80F9-418B-960C-2B19078C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75B9-12C5-4079-A3E6-6595435D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DC5D-50BC-48AB-918E-C22FF213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4780-74C1-41A5-9649-E6B6BE50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3F9B-EE11-4E97-B311-D80D2FC4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34C5-0FD5-4902-B4AA-4A7A9B96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FEE6-16E1-4FA5-B624-888B3380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D0B3-294C-459D-AF07-81FB38AE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5268-2D65-4BD8-8E16-1CC48711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099F-11DB-449A-BB3F-8164C592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2095-D3AD-43CF-9667-15127E16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3550-EC79-4CC1-B1EF-0D256968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43B5-33FC-479B-BC90-6E251060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BD7C-1EA1-4345-BA34-5B89D5A8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801C-8308-4F08-A95F-EDF8FD59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1728-367E-4E7D-B6C1-3A894A39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B968-9A6C-4418-B506-7DF2F1BB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5D96-9DCF-4DAC-BC6C-C77942E0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8CAD-EAAC-4064-8ED9-231AFFA0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98FC-7844-4F43-A896-C79F1DDF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99E7-8985-464F-A7A5-B27742B7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7A15-E547-4F0E-8BFF-38A6B653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17A4-95DF-4E67-8DAD-9E324E4FD8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6024-3214-45EC-8B0B-FF0EDDAB94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opedia.com/TERM/P/server.htm" TargetMode="External"/><Relationship Id="rId2" Type="http://schemas.openxmlformats.org/officeDocument/2006/relationships/hyperlink" Target="http://www.webopedia.com/TERM/P/clien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#1 on Interne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tocols and Addr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744200"/>
            <a:ext cx="822960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Internet allows different types of computers from around the world to communica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6840" indent="-289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s is possible because the computing community agreed upon common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rotocol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sets of rules that describe how communication takes plac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36840" indent="-289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two central protocols that control Internet communication ar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60640">
              <a:lnSpc>
                <a:spcPct val="80000"/>
              </a:lnSpc>
              <a:spcBef>
                <a:spcPts val="675"/>
              </a:spcBef>
              <a:buClr>
                <a:srgbClr val="e5e5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ransmission Control Protoco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C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60640">
              <a:lnSpc>
                <a:spcPct val="80000"/>
              </a:lnSpc>
              <a:spcBef>
                <a:spcPts val="675"/>
              </a:spcBef>
              <a:buClr>
                <a:srgbClr val="e5e5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Internet Protoco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I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57200" y="35812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se protocols rely on each computer having a unique identifier (known as an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P addres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nalogy: street address + zip code provide unique address for your house/dor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76520" indent="-304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using this address, anyone in the world can send you a let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 IP address is a number, written as a dotted sequence such as 147.134.2.8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ch computer is assigned an IP address by its Internet Service Provider (ISP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me ISPs (e.g., AOL, most colleges) maintain a pool of IP addresses and assign them dynamically to computers each time they connec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CP/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mission Control Protocol (TCP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34960" indent="-2055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trols the method by which messages are broken down into packets and then reassembled when they reach their final dest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net Protocol (IP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34960" indent="-2055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cerned with labeling the packets for delivery and controlling the packets’ paths from sender to recipi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2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2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057400" y="3514680"/>
            <a:ext cx="49626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uters and D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Internet relies on special purpose computers in the net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router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are computers that receive packets, access the routing information, and pass the packets on toward their dest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omain name server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e computers that store mappings between domain names and IP address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45640" indent="-16884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domain names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are hierarchical names for computers (e.g., bluejay.creighton.edu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3" marL="1184040" indent="-1688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they are much easier to remember and type than IP address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845640" indent="-16884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omain name servers translate the names into their corresponding IP address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057400" y="4191120"/>
            <a:ext cx="489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ddress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P address: pattern of 32 or 128 bits often represented in dotted decimal no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nemonic addres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ain na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-Level Doma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ain name system (D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me ser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NS look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Corporation for Assigned Names &amp; Numbers (ICAN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cates IP addresses to ISPs who then assign those addresses within their reg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sees the registration of domains and domain na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xy Serv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at sits between 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client applic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such as a Web browser, and a real server. It intercepts all requests to the real server to see if it can fulfill the requests itself. If not, it forwards the request to the real serv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mprove Perform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roxy servers can dramatically improve performance for groups of users. This is because it saves the results of all requests for a certain amount of time. Consider the case where both user X and user Y access the World Wide Web through a proxy server. First user X requests a certain Web page, which we'll call Page 1. Sometime later, user Y requests the same page. Instead of forwarding the request to the Web server where Page 1 resides, which can be a time-consuming operation, the proxy server simply returns the Page 1 that it already fetched for user X. Since the proxy server is often on the same network as the user, this is a much faster opera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lter Requests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xy servers can also be used to filter requests. For example, a company might use a proxy server to prevent its employees from accessing a specific set of Web sit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ributed Network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16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design of the ARPANet was influenced by the ideas of Paul Baran, a researcher at the RAND Instit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an proposed 2 key ideas: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istributed network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acket-switch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all: the ARPANet was funded by the Dept of Defense for communic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s such, it needed to be resistant to attack or mechanical failu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506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cket Switch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a packet-switching network, messages to be sent over the network are first broken into small pieces known as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acke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se packets are sent independently to their final dest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0" r="0" b="391"/>
          <a:stretch/>
        </p:blipFill>
        <p:spPr>
          <a:xfrm>
            <a:off x="1066680" y="2590920"/>
            <a:ext cx="68202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s of Pack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nding information in smaller units increases the efficient use of connec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arge messages can't monopolize the connec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nalogy: limiting call lengths at a pay phone to limit wai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mitting packets independently allows the network to react to failures or network conges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outers (special-purpose computers that direct the flow of messages) can recognize failures or congestion and reroute the packet around trouble area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reaking the message into packets can improve reliabi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nce the packets are transmitted independently, it is likely that at least part of the message will arrive (even if some failures occur within the network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ftware at the destination can recognize which packets are missing and request retransmis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5:21:41Z</dcterms:created>
  <dc:creator>ZOHAIR</dc:creator>
  <dc:description/>
  <dc:language>en-US</dc:language>
  <cp:lastModifiedBy>Asma Sanam Larik</cp:lastModifiedBy>
  <dcterms:modified xsi:type="dcterms:W3CDTF">2009-12-03T09:05:02Z</dcterms:modified>
  <cp:revision>20</cp:revision>
  <dc:subject/>
  <dc:title>Lecture on Internet</dc:title>
</cp:coreProperties>
</file>