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3866-FB01-46FF-82EE-24064045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23BC-DA26-4A3D-ADD1-7C5DA3AA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DA8B-C93D-4461-BFE8-1751FE74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5E6A-8FC4-47F9-AC9C-DDE91FC1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7DAD-8F23-4DE6-9C0E-DB16BD7F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1C56-6108-4DA1-ABB6-3F9C9EAE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47A7-0488-412F-939D-A9A25AF0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8D15-5A8E-4BC4-B028-D1262A21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02B3-EF26-4A3B-A315-2D252D9D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9C04-2ED9-4C99-AD2A-F23FA47C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302D-140E-4C70-B6EC-27B418C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66A9-FE29-476B-BA78-62886193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391B-1AB9-4A09-8E0D-289F5F2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54A8-278B-4073-9E7B-8B014E69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632A-606D-471C-A5F0-E1F4E941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41B8-60F6-4962-A9ED-72561FFB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D2A7-96BA-47C3-9F25-18B1F24A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292C-C82B-4E42-8106-9D21CFA7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3396-7399-474A-AE10-01FC5E80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FF41-BEC7-470E-A16A-107F87F1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6CA7-406F-4562-9173-27EFFBB1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0B17-544E-4C75-AC2D-4268020A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4E6A-59BC-4014-B4C9-831C183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1F3E-E84F-4676-A5BE-F10A83E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3C4-9C1C-4C2C-8CF3-E86122B72B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C522-1F98-4E46-8CDA-195BA73F1B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TRODUCTION TO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OMPU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42667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rse Instructor: Asma Sanam Lar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PU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PU works by repeatedly fetching a program instruction from memory and executing that instru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ividual instructions are very simple (e.g., add two numbers, or copy this dat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plex behavior results from incredible spe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 2.53 GHz Celeron D processor can execute 2.53 billion instructions per seco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 2.93 GHz Core 2 Duo processor can execute 2.93 billion instructions per seco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58128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3498840"/>
            <a:ext cx="4800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he part of the computer that stores data and progra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rn computers ar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igi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evices, meaning they store and process information a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inary digi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bi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ts are commonly represented as either 0 or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ts are the building block of digital mem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720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grouping bits together, large ranges of values can be repres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rn computers use a combination of memory types, each with its own performance and cost characterist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in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mary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is fast and expens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is stored as electric signals in circuitry, used to store active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 is volatile – data is lost when the computer is turned of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: Random Access Memory (RAM), cach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condary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lower but cheap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different technologies (magnetic signals on hard disk, reflective spots on C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 is permanent – useful for storing long-term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: hard disk, floppy disk, compact disk (CD), flash dr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-end computers tend to hav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re main memory to allow for quick access to more data and program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re secondary memory to allow for storing more long-term da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048120"/>
            <a:ext cx="1389240" cy="1023840"/>
          </a:xfrm>
          <a:prstGeom prst="leftArrow">
            <a:avLst>
              <a:gd name="adj1" fmla="val 50000"/>
              <a:gd name="adj2" fmla="val 33922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6386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put/Output (I/O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put devic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computer to receive data and instructions from external sourc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amples: keyboard, mouse, track pad, microphone, scann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output devic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computer to display or broadcast its resul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amples: monitor, speaker, prin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686480"/>
            <a:ext cx="1198440" cy="952200"/>
          </a:xfrm>
          <a:prstGeom prst="leftArrow">
            <a:avLst>
              <a:gd name="adj1" fmla="val 50000"/>
              <a:gd name="adj2" fmla="val 31465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4876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all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ardwa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fers to the physical components of comput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oftwa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fers to the programs that execute on the hard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oftware program is a sequence of instructions for the computer (more specifically, for the CPU) to carry out in order to complete some ta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word processing (Microsoft Word, Corel WordPerfe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image processing (Adobe Photoshop, Macromedia Flash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Web browsing (Internet Explorer, Mozilla Firefox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666880"/>
            <a:ext cx="3047760" cy="198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Questions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 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bits and Byt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lean Op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p Flop G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ation of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xadecimal N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netic Disks and Ta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resentation of Data, Sound , Text , Im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ts and Bit Patter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inary Digit (0 or 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t Patterns are used to represent infor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xt charac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oth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olean Op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oolean Oper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 operation that manipulates one or more true/false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c op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OR (exclusive o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Comput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Hardware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ftware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Input/ Output Devices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n Neumann Archite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P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 to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Figure 1.1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The Boolean operations AND, OR, and XOR (exclusive or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31960" y="1619280"/>
            <a:ext cx="550692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at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device that computes a Boolean op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implemented as (small) electronic circu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the building blocks from which computers are construc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LSI (Very Large Scale Integra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Figure 1.2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 A pictorial representation of AND, OR, XOR, and NOT gates as well as their input and output val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30560" y="1600200"/>
            <a:ext cx="470376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ip-flo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lip-flop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circuit built from gates that can store one b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input line is used to set its stored value t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input line is used to set its stored value to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le both input lines are 0, the most recently stored value is preser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Figure 1.3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A simple flip-flop circui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73360" y="1600200"/>
            <a:ext cx="54655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grayscl/>
          </a:blip>
          <a:srcRect l="0" t="0" r="0" b="66754"/>
          <a:stretch/>
        </p:blipFill>
        <p:spPr>
          <a:xfrm>
            <a:off x="2057400" y="1523880"/>
            <a:ext cx="5486400" cy="48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grayscl/>
          </a:blip>
          <a:srcRect l="0" t="32688" r="0" b="34623"/>
          <a:stretch/>
        </p:blipFill>
        <p:spPr>
          <a:xfrm>
            <a:off x="1752480" y="1600200"/>
            <a:ext cx="56008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grayscl/>
          </a:blip>
          <a:srcRect l="0" t="67603" r="0" b="0"/>
          <a:stretch/>
        </p:blipFill>
        <p:spPr>
          <a:xfrm>
            <a:off x="1752480" y="1601640"/>
            <a:ext cx="5600880" cy="44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5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nother way of constructing a flip-fl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81000" y="2111400"/>
            <a:ext cx="7229520" cy="40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xadecimal No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xadecimal not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shorthand notation for long bit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vides a pattern into groups of four bits e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s each group by a single symb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 10100011 becomes A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 Comput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8153280" cy="33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C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omput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a device that receives, stores, and processes informat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ypes of computers have different characteristic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super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powerful but expensive; used for complex computations (e.g., weather forecasting, engineering design and model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desk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ess powerful but affordable; used for a variety of user applications (e.g., email, Web browsing, document process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ap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imilar functionality to desktops, but mobi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alm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portable, but limited applications and screen siz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4800600"/>
            <a:ext cx="5943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hexadecimal coding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316320" y="1676520"/>
            <a:ext cx="2703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 Memory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ll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unit of main memory (typically 8 bits which is on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yt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st significant 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it at the left (high-order) end of the conceptual row of bits in a memory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ast significant 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it at the right (low-order) end of the conceptual row of bits in a memory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7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organization of a byte-size memory ce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2928960"/>
            <a:ext cx="78548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 Memory Addr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“name” that uniquely identifies one cell in the computer’s main mem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names are actually numb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numbers are assigned consecutively starting at zer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ing the cells in this manner associates an order with the memory cel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8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Memory cells arranged by addr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68600" y="1600200"/>
            <a:ext cx="5805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Termin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ndom Access Memory (RAM)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emory in which individual cells can be easily accessed in any or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ynamic Memory (DRAM)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M composed of volatile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ing Memory Capa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ilo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tes = 10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K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ti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10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ometimes “kibi” rather than “kilo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ega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tes = 1,048,576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M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i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48,576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times “megi” rather than “meg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iga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bytes = 1,073,741,8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G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i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73,741,8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times “gigi” rather than “gig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-line versus off-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larger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less volatile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slower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Storage Syst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netic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cal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V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ash Dr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9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 magnetic disk storag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44520" y="1600200"/>
            <a:ext cx="6654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ktop Specif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urchasing a computer can be conf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les materials contain highly technical information and computer jarg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following specs describe two computer systems for sale in January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ktop 1 is a low-end system, inexpensive but with limited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ktop 2 is a high-end system, uses the latest technology so expens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3444840"/>
            <a:ext cx="5410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0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Magnetic tape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608120"/>
            <a:ext cx="822960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1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CD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905120"/>
            <a:ext cx="662940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l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unit of data stored in mass storag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eld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eyf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record versus Logical rec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ffer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memory area used for the temporary storage of data (usually as a step in transferring the dat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Logical records versus physical records on a dis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14720" y="1600200"/>
            <a:ext cx="4713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ach character (letter, punctuation, etc.) is assigned a unique bit patter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CII: Uses patterns of 7-bits to represent most symbols used in written English 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icode: Uses patterns of 16-bits to represent the major symbols used in languages world s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O standard: Uses patterns of 32-bits to represent most symbols used in languages world w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3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message “Hello.” in ASC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3411360"/>
            <a:ext cx="822960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Numeric Val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notation: Uses bits to represent a number in base tw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ations of computer representations of numeric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flow – occurs when a value is too big to be repres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ncation – occurs when a value cannot be represented accur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Im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t map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ixel: short for “picture elemen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G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minance and chromin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ctor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al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eType and PostScrip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S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ing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for high quality record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s actual au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in music synthesiz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s “musical score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Figure 1.14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 The sound wave represented by the sequence 0, 1.5, 2.0, 1.5, 2.0, 3.0, 4.0, 3.0, 0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33560" y="1828800"/>
            <a:ext cx="68911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ardware vs.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term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hardwa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efers to the physical components of a computer syst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.g., monitor, keyboard, mouse, hard driv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term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softwa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efers to the programs that execute on the compu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.g., word processing program, Web brows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35268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4267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ard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57913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58197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ft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5486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2666880"/>
            <a:ext cx="3047760" cy="198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Questions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Desktop Hard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466"/>
          <a:stretch/>
        </p:blipFill>
        <p:spPr>
          <a:xfrm>
            <a:off x="1447920" y="1447920"/>
            <a:ext cx="635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n Neumann Archite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though specific components may vary, virtually all modern computers have the same underlying struct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nown as th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von Neumann architectu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med after computer pioneer, John von Neumann, who popularized the design in the early 1950'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von Neumann architecture identifies 3 essential compon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put/Output Devices (I/O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user to interact with the compu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Memor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tores information to be processed as well as programs (instructions specifying the steps necessary to complete specific task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entral Processing Unit (CPU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carries out the instructions to process inform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al Processing Unit (CPU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2920"/>
            <a:ext cx="8229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PU is the "brains" of the computer, responsible for controlling its inner work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de o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ircuitry –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electronic components wired together to control the flow of electrical sign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ircuitry is embedded in a small silicon chip, 1-2 inches squ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pite its small size, the CPU is the most complex part of a compute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6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CPU circuitry can have 100's of millions of individual component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6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ercial examples: Intel Core 2 Duo, AMD Athlon, Motorola PowerPC G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52880" y="4599000"/>
            <a:ext cx="2133720" cy="1916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4587840"/>
            <a:ext cx="2590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1:12Z</dcterms:created>
  <dc:creator>ZOHAIR</dc:creator>
  <dc:description/>
  <dc:language>en-US</dc:language>
  <cp:lastModifiedBy>ZOHAIR</cp:lastModifiedBy>
  <dcterms:modified xsi:type="dcterms:W3CDTF">2009-09-02T12:46:26Z</dcterms:modified>
  <cp:revision>33</cp:revision>
  <dc:subject/>
  <dc:title>INTRODUCTION TO COMPUTING</dc:title>
</cp:coreProperties>
</file>