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D00D3-4B43-4F18-8BDD-82682407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3C08-AAF8-43DD-AF09-14732736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68988-57B2-4355-9B51-4B8F36F6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6DCCE-DC38-40A6-AEBB-DF7BC8DF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00E2-4D79-4DA6-864A-1F9EB22E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88F1-2502-4D9B-B116-56488631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4C6E-3217-4E36-8FF9-2C76E4EE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11FC-8637-4343-A7D1-897E40D8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BD63-8048-4476-AF4F-0CAAF846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1C1E-327B-4F07-9DE8-0EAE743C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618B-3C53-411F-8A8F-6BD60C0D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20D4E-3DF9-4AA6-BE44-C8993D80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6F79-6369-49AD-94B6-5ECC5700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0328-9D29-48F1-A668-7E443BEC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51E4-2994-4F4B-954C-62BEE318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CA4D-1DA8-4292-A409-8728FB96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13AE-CC96-4104-80A2-C9820787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73D4-CFF5-4790-AD92-DB5015F2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767E3-F59F-44A4-92EC-3F57A7D5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82242-A532-4339-9D0A-A258AFC3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5F885-2692-4115-BA1A-75D6DFDC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FBA4D-A275-48BC-8B16-1A9D5723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55677-4AFC-43F5-9A16-EDB5D609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8FA1-6DF9-4B0C-B818-F1B28D73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555E-52CA-4FE9-B2F4-C127022C9B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5277-297B-4641-A560-2815C1A592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INTRODUCTION TO 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COMPUTING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680" y="4266720"/>
            <a:ext cx="7010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rse Instructor: Asma Sanam Lari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PU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PU works by repeatedly fetching a program instruction from memory and executing that instru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dividual instructions are very simple (e.g., add two numbers, or copy this data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mplex behavior results from incredible spe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a 2.53 GHz Celeron D processor can execute 2.53 billion instructions per secon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a 2.93 GHz Core 2 Duo processor can execute 2.93 billion instructions per secon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6934320" y="3581280"/>
            <a:ext cx="1371600" cy="4572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52480" y="3498840"/>
            <a:ext cx="480060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m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emo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the part of the computer that stores data and progra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16000" indent="-216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rn computers ar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igita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devices, meaning they store and process information as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inary digi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(bit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ts are commonly represented as either 0 or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its are the building block of digital memo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720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y grouping bits together, large ranges of values can be represen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mory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rn computers use a combination of memory types, each with its own performance and cost characteristic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ain memo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rimary memo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) is fast and expens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ata is stored as electric signals in circuitry, used to store active d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mory is volatile – data is lost when the computer is turned of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s: Random Access Memory (RAM), cach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econdary memor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lower but cheap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se different technologies (magnetic signals on hard disk, reflective spots on CD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mory is permanent – useful for storing long-term d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68000" indent="-1800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amples: hard disk, floppy disk, compact disk (CD), flash dr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mory (cont.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igher-end computers tend to hav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re main memory to allow for quick access to more data and program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ore secondary memory to allow for storing more long-term dat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3048120"/>
            <a:ext cx="1389240" cy="1023840"/>
          </a:xfrm>
          <a:prstGeom prst="leftArrow">
            <a:avLst>
              <a:gd name="adj1" fmla="val 50000"/>
              <a:gd name="adj2" fmla="val 33922"/>
            </a:avLst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56386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put/Output (I/O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nput device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llow the computer to receive data and instructions from external sourc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amples: keyboard, mouse, track pad, microphone, scann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output device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llow the computer to display or broadcast its resul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amples: monitor, speaker, print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4686480"/>
            <a:ext cx="1198440" cy="952200"/>
          </a:xfrm>
          <a:prstGeom prst="leftArrow">
            <a:avLst>
              <a:gd name="adj1" fmla="val 50000"/>
              <a:gd name="adj2" fmla="val 31465"/>
            </a:avLst>
          </a:prstGeom>
          <a:solidFill>
            <a:srgbClr val="a886e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00200" y="3733920"/>
            <a:ext cx="4876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all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ardwa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refers to the physical components of comput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09160" indent="-209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oftwa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refers to the programs that execute on the hardw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09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09160" indent="-2091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 software program is a sequence of instructions for the computer (more specifically, for the CPU) to carry out in order to complete some tas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3240" indent="-174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, word processing (Microsoft Word, Corel WordPerfec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3240" indent="-174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, image processing (Adobe Photoshop, Macromedia Flash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3240" indent="-1742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.g., Web browsing (Internet Explorer, Mozilla Firefox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2666880"/>
            <a:ext cx="3047760" cy="1981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Questions 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 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bits and Byt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olean Oper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p Flop G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ganization of Main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xadecimal No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gnetic Disks and Tap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resentation of Data, Sound , Text , Imag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its and Bit Patter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it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inary Digit (0 or 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it Patterns are used to represent inform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xt charac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a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u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oth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olean Oper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oolean Operation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 operation that manipulates one or more true/false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fic oper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OR (exclusive o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 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Comput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Hardware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ftware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are the Input/ Output Devices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n Neumann Architec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P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oduction to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Figure 1.1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The Boolean operations AND, OR, and XOR (exclusive or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31960" y="1619280"/>
            <a:ext cx="5506920" cy="48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at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device that computes a Boolean ope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ten implemented as (small) electronic circu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the building blocks from which computers are construc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LSI (Very Large Scale Integrati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Figure 1.2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 A pictorial representation of AND, OR, XOR, and NOT gates as well as their input and output valu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30560" y="1600200"/>
            <a:ext cx="470376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lip-flo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lip-flop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circuit built from gates that can store one b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input line is used to set its stored value to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input line is used to set its stored value to 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le both input lines are 0, the most recently stored value is preserv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Figure 1.3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 A simple flip-flop circui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73360" y="1600200"/>
            <a:ext cx="54655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4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Setting the output of a flip-flop to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>
            <a:grayscl/>
          </a:blip>
          <a:srcRect l="0" t="0" r="0" b="66754"/>
          <a:stretch/>
        </p:blipFill>
        <p:spPr>
          <a:xfrm>
            <a:off x="2057400" y="1523880"/>
            <a:ext cx="5486400" cy="48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4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Setting the output of a flip-flop to 1 (continued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grayscl/>
          </a:blip>
          <a:srcRect l="0" t="32688" r="0" b="34623"/>
          <a:stretch/>
        </p:blipFill>
        <p:spPr>
          <a:xfrm>
            <a:off x="1752480" y="1600200"/>
            <a:ext cx="56008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4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Setting the output of a flip-flop to 1 (continued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>
            <a:grayscl/>
          </a:blip>
          <a:srcRect l="0" t="67603" r="0" b="0"/>
          <a:stretch/>
        </p:blipFill>
        <p:spPr>
          <a:xfrm>
            <a:off x="1752480" y="1601640"/>
            <a:ext cx="5600880" cy="445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5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Another way of constructing a flip-flo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81000" y="2111400"/>
            <a:ext cx="7229520" cy="40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xadecimal No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exadecimal notation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shorthand notation for long bit patte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vides a pattern into groups of four bits ea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s each group by a single symb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: 10100011 becomes A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a Computer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44560"/>
            <a:ext cx="8153280" cy="33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 C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omputer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s a device that receives, stores, and processes informatio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erent types of computers have different characteristic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supercomputers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powerful but expensive; used for complex computations (e.g., weather forecasting, engineering design and modeling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desktop computers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less powerful but affordable; used for a variety of user applications (e.g., email, Web browsing, document processing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laptop computers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similar functionality to desktops, but mobi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almtop computers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portable, but limited applications and screen siz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7920" y="4800600"/>
            <a:ext cx="5943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6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The hexadecimal coding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316320" y="1676520"/>
            <a:ext cx="2703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 Memory Cel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ell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unit of main memory (typically 8 bits which is on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yt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ost significant bit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bit at the left (high-order) end of the conceptual row of bits in a memory c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ast significant bit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the bit at the right (low-order) end of the conceptual row of bits in a memory ce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7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The organization of a byte-size memory ce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520" y="2928960"/>
            <a:ext cx="785484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in Memory Addre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ddress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“name” that uniquely identifies one cell in the computer’s main mem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names are actually numbe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se numbers are assigned consecutively starting at zer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ing the cells in this manner associates an order with the memory cel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8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Memory cells arranged by addr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68600" y="1600200"/>
            <a:ext cx="5805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mory Termin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ndom Access Memory (RAM)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emory in which individual cells can be easily accessed in any or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ynamic Memory (DRAM)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RAM composed of volatile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asuring Memory Capac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ilobyt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ytes = 1024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: 3 KB = 3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tim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1024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Sometimes “kibi” rather than “kilo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egabyt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ytes = 1,048,576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: 3 MB = 3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ime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,048,576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times “megi” rather than “mega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igabyte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3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bytes = 1,073,741,824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ple: 3 GB = 3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Times New Roman"/>
              </a:rPr>
              <a:t>time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,073,741,824 by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times “gigi” rather than “giga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ss Stor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-line versus off-l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ally larger than main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ally less volatile than main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ally slower than main mem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ss Storage Syste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gnetic 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p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tical Sys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V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ash Dr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9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A magnetic disk storage syst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44520" y="1600200"/>
            <a:ext cx="6654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ktop Specific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3716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urchasing a computer can be conf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ales materials contain highly technical information and computer jarg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following specs describe two computer systems for sale in January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sktop 1 is a low-end system, inexpensive but with limited f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esktop 2 is a high-end system, uses the latest technology so expens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76520" y="3444840"/>
            <a:ext cx="541008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10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Magnetic tape stor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1608120"/>
            <a:ext cx="8229600" cy="45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11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CD stor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71600" y="1905120"/>
            <a:ext cx="6629400" cy="41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l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unit of data stored in mass storage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eld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eyfiel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ysical record versus Logical recor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ffer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 memory area used for the temporary storage of data (usually as a step in transferring the dat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12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Logical records versus physical records on a dis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214720" y="1600200"/>
            <a:ext cx="471312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esenting Tex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ach character (letter, punctuation, etc.) is assigned a unique bit patter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CII: Uses patterns of 7-bits to represent most symbols used in written English tex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icode: Uses patterns of 16-bits to represent the major symbols used in languages world s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O standard: Uses patterns of 32-bits to represent most symbols used in languages world w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1.13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The message “Hello.” in ASCI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3411360"/>
            <a:ext cx="8229600" cy="9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esenting Numeric Val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nary notation: Uses bits to represent a number in base tw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mitations of computer representations of numeric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flow – occurs when a value is too big to be represen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uncation – occurs when a value cannot be represented accurat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esenting Imag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t map techniq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ixel: short for “picture element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G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minance and chromin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ctor techniq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cal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ueType and PostScrip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esenting Sou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pling techniq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for high quality record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ords actual au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D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in music synthesiz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ords “musical score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Figure 1.14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 The sound wave represented by the sequence 0, 1.5, 2.0, 1.5, 2.0, 3.0, 4.0, 3.0, 0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033560" y="1828800"/>
            <a:ext cx="68911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ardware vs. Soft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term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hardwar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refers to the physical components of a computer syst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.g., monitor, keyboard, mouse, hard driv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term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 softwar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refers to the programs that execute on the comput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.g., word processing program, Web brows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3352680"/>
            <a:ext cx="152280" cy="2286000"/>
          </a:xfrm>
          <a:custGeom>
            <a:avLst/>
            <a:gdLst>
              <a:gd name="textAreaLeft" fmla="*/ 0 w 152280"/>
              <a:gd name="textAreaRight" fmla="*/ 55080 w 1522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42670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ardware compon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579132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581976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oftware compon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5486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2666880"/>
            <a:ext cx="3047760" cy="1981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Questions 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on Desktop Hardwa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466"/>
          <a:stretch/>
        </p:blipFill>
        <p:spPr>
          <a:xfrm>
            <a:off x="1447920" y="1447920"/>
            <a:ext cx="635292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on Neumann Architec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lthough specific components may vary, virtually all modern computers have the same underlying struct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-255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known as the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von Neumann architecture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-255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amed after computer pioneer, John von Neumann, who popularized the design in the early 1950'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8840" indent="-438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von Neumann architecture identifies 3 essential componen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-255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nput/Output Devices (I/O)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allow the user to interact with the comput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-255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Memory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stores information to be processed as well as programs (instructions specifying the steps necessary to complete specific task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4240" indent="-25560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Central Processing Unit (CPU)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carries out the instructions to process inform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696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entral Processing Unit (CPU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72920"/>
            <a:ext cx="822960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PU is the "brains" of the computer, responsible for controlling its inner workin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de of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circuitry –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electronic components wired together to control the flow of electrical signa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circuitry is embedded in a small silicon chip, 1-2 inches squ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pite its small size, the CPU is the most complex part of a computer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868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CPU circuitry can have 100's of millions of individual component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868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64480" indent="-217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mercial examples: Intel Core 2 Duo, AMD Athlon, Motorola PowerPC G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52880" y="4599000"/>
            <a:ext cx="2133720" cy="1916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676520" y="4587840"/>
            <a:ext cx="259056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8:41:12Z</dcterms:created>
  <dc:creator>ZOHAIR</dc:creator>
  <dc:description/>
  <dc:language>en-US</dc:language>
  <cp:lastModifiedBy>ZOHAIR</cp:lastModifiedBy>
  <dcterms:modified xsi:type="dcterms:W3CDTF">2009-09-02T12:46:26Z</dcterms:modified>
  <cp:revision>33</cp:revision>
  <dc:subject/>
  <dc:title>INTRODUCTION TO COMPUTING</dc:title>
</cp:coreProperties>
</file>