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D881-A93A-49CE-86E2-D62CC280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A1F4-18B3-4107-AA65-B2E3BEF5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695B-9386-42B5-B35F-E68A197C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4764-2AFE-4CA9-8144-08E4D9148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3666-A2E9-45D0-973A-63CEB67E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141C-3831-4061-9B04-F95E67D6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C204-3436-4E7D-B13F-776F611B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7C92-9E7E-4F49-A54A-F00BD693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BF7-BA5E-4CA4-B2AF-356DE5B5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AD02-6314-48D5-B3D4-CCEDE22D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FD0A-B4A5-4F52-9CC5-649B2621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5835-D926-4324-A14C-FBF2C461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25E3-3853-48DA-87BA-9EBD69EA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5A81-F6FA-4AD9-8149-E03A2FA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CCE6-C695-48E7-AD91-620E127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5DA-F6AA-4EC1-ACCA-F551B685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0509-8B5B-4377-A483-AABD98D9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E7D80-252B-4918-9705-C7EACBCD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2609-20A7-4E9F-BB6A-2C5CA47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5B5C-DDFE-42E6-A06D-E2934C68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004F-B882-4DA3-9827-AE392A7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E1A9C-1829-4603-88D5-92C84E3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D098-B852-46C0-9D50-87EAEE8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26A2-0B2A-4BFC-A654-C8A5258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326B-3DD4-433F-B882-623A100592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053-F0FA-44DB-8AEB-C7D490E25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RODUCTION TO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MPU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se Instructor: Asma Sanam Lar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PU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works by repeatedly fetching a program instruction from memory and executing that instru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instructions are very simple (e.g., add two numbers, or copy this dat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lex behavior results from incredible spe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53 GHz Celeron D processor can execute 2.5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93 GHz Core 2 Duo processor can execute 2.9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58128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49884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he part of the computer that stores data and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ar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evices, meaning they store and process information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commonly represented as either 0 or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the building block of digital 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720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grouping bits together, large ranges of values can be repres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use a combination of memory types, each with its own performance and cost characterist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in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m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s fast and expens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is stored as electric signals in circuitry, used to store activ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volatile – data is lost when the computer is turned o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Random Access Memory (RAM), ca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cond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lower but chea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different technologies (magnetic signals on hard disk, reflective spots on 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permanent – useful for storing long-term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hard disk, floppy disk, compact disk (CD), flash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-end computers tend to hav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main memory to allow for quick access to more data and progra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secondary memory to allow for storing more long-term d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6386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put/Output (I/O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receive data and instructions from external 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keyboard, mouse, track pad, microphone, scann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ut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display or broadcast its resul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monitor, speaker, pri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ll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rd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hysical components of compu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rograms that execute on the hard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oftware program is a sequence of instructions for the computer (more specifically, for the CPU) to carry out in order to complete some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ord processing (Microsoft Word, Corel WordPerf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image processing (Adobe Photoshop, Macromedia Flas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eb browsing (Internet Explorer, Mozilla Firefo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bits and Byt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lean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p Flop G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 of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xa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Disks and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esentation of Data, Sound , Text ,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ts and Bit Patt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inary Digit (0 or 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t Patterns are used to represen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olean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oolean Oper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operation that manipulates one or more true/false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OR (exclusive 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Comput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Hard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ft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Input/ Output Devices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P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The Boolean operations AND, OR, and XOR (exclusive o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31960" y="1619280"/>
            <a:ext cx="55069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at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device that computes a Boolean op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implemented as (small) electronic circu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the building blocks from which computers are constr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SI (Very Large Scale Integ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2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A pictorial representation of AND, OR, XOR, and NOT gates as well as their input and output val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30560" y="1600200"/>
            <a:ext cx="47037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ip-fl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ip-flo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circuit built from gates that can store one b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le both input lines are 0, the most recently stored value is preser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3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A simple flip-flop circui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73360" y="1600200"/>
            <a:ext cx="54655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grayscl/>
          </a:blip>
          <a:srcRect l="0" t="0" r="0" b="66754"/>
          <a:stretch/>
        </p:blipFill>
        <p:spPr>
          <a:xfrm>
            <a:off x="2057400" y="1523880"/>
            <a:ext cx="54864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</a:blip>
          <a:srcRect l="0" t="32688" r="0" b="34623"/>
          <a:stretch/>
        </p:blipFill>
        <p:spPr>
          <a:xfrm>
            <a:off x="1752480" y="1600200"/>
            <a:ext cx="5600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rcRect l="0" t="67603" r="0" b="0"/>
          <a:stretch/>
        </p:blipFill>
        <p:spPr>
          <a:xfrm>
            <a:off x="1752480" y="1601640"/>
            <a:ext cx="560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other way of constructing a flip-fl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111400"/>
            <a:ext cx="72295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xadecimal N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xadecimal not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shorthand notation for long bit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s a pattern into groups of four bits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s each group by a single symb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10100011 becomes A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Compu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153280" cy="33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C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mpu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a device that receives, stores, and processes inform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computers have different characteristic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super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werful but expensive; used for complex computations (e.g., weather forecasting, engineering design and model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sk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ess powerful but affordable; used for a variety of user applications (e.g., email, Web browsing, document process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p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imilar functionality to desktops, but mob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lm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rtable, but limited applications and screen si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594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hexadecimal coding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16320" y="1676520"/>
            <a:ext cx="270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ll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unit of main memory (typically 8 bits which is on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left (high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right (low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organization of a byte-size memory c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928960"/>
            <a:ext cx="78548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“name” that uniquely identifies one cell in the computer’s main mem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ames are actually numb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numbers are assigned consecutively starting at ze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ing the cells in this manner associates an order with the memory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8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emory cells arranged by add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1600200"/>
            <a:ext cx="5805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Termi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ndom Access Memory (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emory in which individual cells can be easily accessed in any or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ynamic Memory (D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M composed of volatile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ing Memory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ilo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K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metimes “kibi” rather than “kilo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M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megi” rather than “me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i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bytes = 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G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gigi” rather than “gi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-line versus off-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arg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ess volatile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slow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 Sys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cal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ash Dr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 magnetic disk storag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ktop Specif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rchasing a computer can be conf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les materials contain highly technical information and computer jarg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ollowing specs describe two computer systems for sale in January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1 is a low-end system, inexpensive but with limit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2 is a high-end system, uses the latest technology so 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3444840"/>
            <a:ext cx="5410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agnetic tape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8120"/>
            <a:ext cx="82296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CD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05120"/>
            <a:ext cx="6629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unit of data stored in mass storag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el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y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record versus Logic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ff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memory area used for the temporary storage of data (usually as a step in transferring the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Logical records versus physical records on a d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14720" y="1600200"/>
            <a:ext cx="471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ch character (letter, punctuation, etc.) is assigned a unique bit patter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CII: Uses patterns of 7-bits to represent most symbols used in written English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code: Uses patterns of 16-bits to represent the major symbols used in languages world s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standard: Uses patterns of 32-bits to represent most symbols used in languages world w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3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message “Hello.” in ASC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411360"/>
            <a:ext cx="82296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Numeric Val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notation: Uses bits to represent a number in base tw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ations of computer representations of numeric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flow – occurs when a value is too big to be repres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ncation – occurs when a value cannot be represented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Im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t map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: short for “picture elemen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G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minance and chromin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ctor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eType and PostScri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S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for high quality recor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actual 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music synthesiz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“musical scor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14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The sound wave represented by the sequence 0, 1.5, 2.0, 1.5, 2.0, 3.0, 4.0, 3.0, 0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33560" y="1828800"/>
            <a:ext cx="6891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rdware vs.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hard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hysical components of a computer syst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monitor, keyboard, mouse, hard dr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soft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rograms that execute on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word processing program, Web brows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Desktop Hard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 Neumann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though specific components may vary, virtually all modern computers have the same underlying struc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nown as th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med after computer pioneer, John von Neumann, who popularized the design in the early 1950'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von Neumann architecture identifies 3 essential compon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/Output Devices (I/O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user to interact with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tores information to be processed as well as programs (instructions specifying the steps necessary to complete specific tas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entral Processing Unit (CPU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arries out the instructions to process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al Processing Unit (CPU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is the "brains" of the computer, responsible for controlling its inner work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de o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ircuitry –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electronic components wired together to control the flow of electrical sig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ircuitry is embedded in a small silicon chip, 1-2 inches squ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pite its small size, the CPU is the most complex part of a comput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CPU circuitry can have 100's of millions of individual componen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ercial examples: Intel Core 2 Duo, AMD Athlon, Motorola PowerPC G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4599000"/>
            <a:ext cx="213372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587840"/>
            <a:ext cx="2590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1:12Z</dcterms:created>
  <dc:creator>ZOHAIR</dc:creator>
  <dc:description/>
  <dc:language>en-US</dc:language>
  <cp:lastModifiedBy>ZOHAIR</cp:lastModifiedBy>
  <dcterms:modified xsi:type="dcterms:W3CDTF">2009-09-02T12:46:26Z</dcterms:modified>
  <cp:revision>33</cp:revision>
  <dc:subject/>
  <dc:title>INTRODUCTION TO COMPUTING</dc:title>
</cp:coreProperties>
</file>