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179D-A684-4BBD-AA9D-282B3209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E3E1-ED0A-4DA2-A2F3-4C227F9E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0279-56F8-46DC-8C44-1F46DDD8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D204-1382-4831-985D-BAAE7CBC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0ECE-8F0A-4558-9E03-A09D4864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28B2-678F-4E32-AEC2-EE722469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3A41-D906-4DB7-967E-201CF97E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06EE-665D-4B71-BDFE-D25C1853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3F2C-F20B-4377-890A-172E7CB1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9C7A-B175-4CA7-A7A8-27A455EC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5DCC-F5A6-4E5A-8EE1-378F400E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AC7F-C1CA-4702-B4F4-0984040D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32E1-528E-4CAA-B196-2E443DB3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3CAB-18FF-4D30-8B95-6CEE9922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40A4-4A07-4963-A6ED-DEAC6C16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6CF5-D677-40D7-B80C-836852A9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F0B6-C291-46A1-B6FE-8A182BD6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A1A8-79AC-47AA-B5A6-72620E7E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6193-E8C4-47DD-A8BC-BEBD48C1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AFBD-A220-4747-9DCB-9724BBE5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D55A-0F80-4DE2-9779-FF9E1853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CC82-F72C-43D4-AFE2-5D5F8853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44A9-1B3B-477F-849B-1E6C1C76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A7A5-FFFE-4071-9316-9D38F30D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6BC5-CE79-44E6-A8F0-845E63E6A4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B97D-4FE8-4AFA-92CE-88F312DD62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 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Execute 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then executes the instruction by activating the proper circuitry to perform the requested ta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instruction is LOAD from memory the CU causes the load to occ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he Execute is over the Control Unit begins the cycle ag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About the JUMP Instruction ?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two kinds of Jump Conditional and Unconditional Jum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ditional Jump would be executed only if certain condition is me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 have instruction B43C then B is the opcode for jump , 4 stands for Register R4 , 3C is the memory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???????????????????????????????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means that the Control Unit would first compare the contents of Register 4 with Register 0 if both are equal then the Control would put the address 3C into P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Program Execution would be altered and the instructions in between would be skipp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 if R0 and R4 are not equal then normal execution would be continu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1522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9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Decoding the instruction B25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fig_02_09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600200"/>
            <a:ext cx="82296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 Example of Program Exec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se I have written the following High Level Language Inst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:= b+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w a, b , c are names given to some cells of memor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se the address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is B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 is C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 is A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ied 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 the value stored in address C3 in some regis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 the value stored in address AA in some registers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both the registers and store their answer in the third regis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t Back / Store the answer in the main memory at address B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op/ Halt the instr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hine Instru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gle High Level instructions gets translated into one or more Machine Level Instru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us Machine Instructions would b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C3   : Load R5 with the contents of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6AA : Load R6 with the content of 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56   : Add R5, R6 and store their result in R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B2 :  Store the result saved in R0 to address B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000:   Halt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 Example of Program Execution (cont…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2666880" cy="4960800"/>
        </p:xfrm>
        <a:graphic>
          <a:graphicData uri="http://schemas.openxmlformats.org/drawingml/2006/table">
            <a:tbl>
              <a:tblPr/>
              <a:tblGrid>
                <a:gridCol w="1011240"/>
                <a:gridCol w="165564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A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A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267080" y="1600200"/>
          <a:ext cx="2895840" cy="4567320"/>
        </p:xfrm>
        <a:graphic>
          <a:graphicData uri="http://schemas.openxmlformats.org/drawingml/2006/table">
            <a:tbl>
              <a:tblPr/>
              <a:tblGrid>
                <a:gridCol w="1098360"/>
                <a:gridCol w="179748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first PC would be A0     IR would be emp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 : A2             IR: 15C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1: R5 would contain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 A4              IR : 16A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2: R6 would contain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 A6              IR: 505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3: R0 would contain 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 : A8              IR: 30B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4: Next value B would be copied to location B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AA               IR: C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5: Ha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the end B2 i.e memory a would be containing the resu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 b/w RAM and Regis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isters are used to hold data immediately applicable to the operation at h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 Memory is  used to hold data that would be needed in nea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bus is a collection of wires. Through bus the CPU is able to extract or read data from main memory by supplying the addr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CPU can write data into memory by providing the address or destination of the cel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c 2.3 Program Execution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r follows a program stored in Main memory by copying one instruction at a time from memory to control u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ce in the Control Unit each instruction is decoded and obey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rder in which the instructions are fetched from memory correspond to the order in which they are stored in memory unless specified by JU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hine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 Unit continually repeat a set of steps known a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chine Cycl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o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ec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is Fetch ?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ring the Fetch the Control Unit requests the Main Memory to provide it with the instruction next to be exec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knows the instruction address because it is kept in the Program Cou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places the instruction received from memory in its Instruction Register and then increments the P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Decode 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the instruction now in the IR the control unit decodes the instruction, which involves breaking it up into Op-code and Opera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-code is the number that indicates the machine instruction that needs to be exec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nds are those that would be manipulated by the execution of the i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80880" y="9144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5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composition of an instruction for the machine in Appendix 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fig_02_05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3387600"/>
            <a:ext cx="785484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30636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Decoding the instruction 35A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fig_02_06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2011320"/>
            <a:ext cx="78548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914400" y="420840"/>
            <a:ext cx="723888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7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n encoded version of the instructions in Figure 2.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fig_02_07"/>
          <p:cNvPicPr/>
          <p:nvPr/>
        </p:nvPicPr>
        <p:blipFill>
          <a:blip r:embed="rId1">
            <a:grayscl/>
          </a:blip>
          <a:stretch/>
        </p:blipFill>
        <p:spPr>
          <a:xfrm>
            <a:off x="1066680" y="2133720"/>
            <a:ext cx="632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8:38:44Z</dcterms:created>
  <dc:creator>saleharaza</dc:creator>
  <dc:description/>
  <dc:language>en-US</dc:language>
  <cp:lastModifiedBy>saleharaza</cp:lastModifiedBy>
  <dcterms:modified xsi:type="dcterms:W3CDTF">2009-09-09T10:02:31Z</dcterms:modified>
  <cp:revision>25</cp:revision>
  <dc:subject/>
  <dc:title>Lecture 3</dc:title>
</cp:coreProperties>
</file>