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8554E-10B9-43CC-AC62-A694C640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5C873-994F-4EC1-A882-7F366A7B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0FED-7AA2-4DD9-A2CF-DDE6DE33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657A-B211-4704-85A9-0BC303AA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1D7F-0F83-4C80-AB2C-15742B6C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278C-5AA0-4F28-BE3E-3675D2DD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164D-B518-4EC8-A731-6C9B5ED1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81B2-CF3C-481E-864D-9D2A5558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79A5-2A60-4B25-A3DA-EAA0ECF6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962A-2D8E-4CDA-915D-1DA782FB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AF58-9350-4885-9A2F-2BA4C07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989D-A86A-4F90-8C7F-3B22D002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57AD-A5F9-4904-A158-08346F16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7C59-8FB2-4248-8CAB-6DD4E389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B817-76C1-468A-8368-6EA96920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C396-8C3D-4BAB-A847-A9879B1B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99A9-8764-4FA3-A7D6-F3E035D5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2A1C-49E0-49F4-A98D-D9451029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3B47-BAF3-41D9-9754-84914BE2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CE4A-48C7-4D96-B9A7-8CA00B8D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E513-3ED9-4B24-BE64-6DA486EA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FB7A-4E0C-4E38-A088-C7E3E594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F4EA-4715-448C-8EE0-1F37DD5F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BD84-8011-429C-B935-DD125BA9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B7A2-F07B-469C-BB81-E3E1F6D544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CEC1-7BFF-4FA3-811A-3658E0E621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 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Execut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then executes the instruction by activating the proper circuitry to perform the requested t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instruction is LOAD from memory the CU causes the load to occ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Execute is over the Control Unit begins the cycle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bout the JUMP Instruction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two kinds of Jump Conditional and Unconditional Jum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ditional Jump would be executed only if certain condition is me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 have instruction B43C then B is the opcode for jump , 4 stands for Register R4 , 3C is the memory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???????????????????????????????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means that the Control Unit would first compare the contents of Register 4 with Register 0 if both are equal then the Control would put the address 3C into P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Program Execution would be altered and the instructions in between would be skipp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 if R0 and R4 are not equal then normal execution would be continu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52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B25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fig_02_09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0200"/>
            <a:ext cx="82296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I have written the following High Level Language Inst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:= b+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w a, b , c are names given to some cells of memor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the address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i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 is C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 is A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d 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C3 in some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AA in some registers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both the registers and store their answer in the third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 Back / Store the answer in the main memory at addres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op/ Halt the instr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Instru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 High Level instructions gets translated into one or more Machine Level Instru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us Machine Instructions would b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C3   : Load R5 with the contents of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6AA : Load R6 with the content of 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56   : Add R5, R6 and store their result in R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B2 :  Store the result saved in R0 to address B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000:   Halt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 (cont…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2666880" cy="4960800"/>
        </p:xfrm>
        <a:graphic>
          <a:graphicData uri="http://schemas.openxmlformats.org/drawingml/2006/table">
            <a:tbl>
              <a:tblPr/>
              <a:tblGrid>
                <a:gridCol w="1011240"/>
                <a:gridCol w="165564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67080" y="1600200"/>
          <a:ext cx="2895840" cy="4567320"/>
        </p:xfrm>
        <a:graphic>
          <a:graphicData uri="http://schemas.openxmlformats.org/drawingml/2006/table">
            <a:tbl>
              <a:tblPr/>
              <a:tblGrid>
                <a:gridCol w="1098360"/>
                <a:gridCol w="179748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first PC would be A0     IR would be emp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2             IR: 15C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1: R5 would contain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4              IR : 16A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2: R6 would contain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6              IR: 505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3: R0 would contain 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8              IR: 30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4: Next value B would be copied to location 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AA               IR: C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5: Ha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end B2 i.e memory a would be containing the resu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 b/w RAM and Regis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isters are used to hold data immediately applicable to the operation at h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 Memory is  used to hold data that would be needed in nea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bus is a collection of wires. Through bus the CPU is able to extract or read data from main memory by supplying the add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CPU can write data into memory by providing the address or destination of the cel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 2.3 Program Execution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r follows a program stored in Main memory by copying one instruction at a time from memory to control u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ce in the Control Unit each instruction is decoded and obey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rder in which the instructions are fetched from memory correspond to the order in which they are stored in memory unless specified by JU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 Unit continually repeat a set of steps known a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chine Cyc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Fetch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the Fetch the Control Unit requests the Main Memory to provide it with the instruction next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knows the instruction address because it is kept in the Program Cou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places the instruction received from memory in its Instruction Register and then increments the P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Decod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instruction now in the IR the control unit decodes the instruction, which involves breaking it up into Op-code and Opera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-code is the number that indicates the machine instruction that needs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nds are those that would be manipulated by the execution of the i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0880" y="9144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composition of an instruction for the machine in Appendix 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fig_02_05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3387600"/>
            <a:ext cx="785484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3063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35A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fig_02_06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2011320"/>
            <a:ext cx="78548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14400" y="420840"/>
            <a:ext cx="72388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 encoded version of the instructions in Figure 2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fig_02_07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213372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8:38:44Z</dcterms:created>
  <dc:creator>saleharaza</dc:creator>
  <dc:description/>
  <dc:language>en-US</dc:language>
  <cp:lastModifiedBy>saleharaza</cp:lastModifiedBy>
  <dcterms:modified xsi:type="dcterms:W3CDTF">2009-09-09T10:02:31Z</dcterms:modified>
  <cp:revision>25</cp:revision>
  <dc:subject/>
  <dc:title>Lecture 3</dc:title>
</cp:coreProperties>
</file>