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B5C6-CE58-4950-9C27-A8DF27E6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C6A6F-AE2C-47C7-BB81-E4959FC6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0868B-B9C5-4A05-B959-057593D0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B393A-C551-4715-8F1F-3663F6A8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A128-F5CC-4376-88B0-26B71219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3DBE-8D75-4C4B-AB48-79054E2F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92C4-3CBD-4984-AB16-905CACD8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459A-59EE-456D-8325-C30C9DEC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F71C-679E-4EC4-93F8-B6F06AFC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FE27-F7DE-463C-9DDB-D3FCEC2B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B326-7374-4831-B1FE-F7BE785C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D9587-F686-43E5-B0A6-3DA2E1A2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EF13-48D5-433C-8880-5FDCA825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2933-98F2-4B69-81AC-B919D6C4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00B7-FF51-41F9-8765-2C3CA727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8D3D-72E0-4C5D-B406-581A059A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C6FD-E926-4E76-A0FC-15955F4A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37AE-FCC2-4256-A1BF-6A257733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CA072-253B-4AFB-B9B0-E123712B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44FE5-0104-4BE5-9029-ADD1CBDC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50E1C-9871-4711-AC2A-465D33B2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C4709-14AC-4B03-8768-A0ACBC6A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28EEA-B6E4-4D12-8F4B-486057C9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899C-0759-42A1-B7C9-EF7EFC1F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AF91-AE79-4E3F-AB9C-0AEAF27167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DD39-F28A-4818-9CA0-6F29B383BD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cture 3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Execute 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trol Unit then executes the instruction by activating the proper circuitry to perform the requested ta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instruction is LOAD from memory the CU causes the load to occ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the Execute is over the Control Unit begins the cycle ag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About the JUMP Instruction ?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two kinds of Jump Conditional and Unconditional Jum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ditional Jump would be executed only if certain condition is me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I have instruction B43C then B is the opcode for jump , 4 stands for Register R4 , 3C is the memory ad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???????????????????????????????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means that the Control Unit would first compare the contents of Register 4 with Register 0 if both are equal then the Control would put the address 3C into P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Program Execution would be altered and the instructions in between would be skipp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ever if R0 and R4 are not equal then normal execution would be continu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1522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9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Decoding the instruction B25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fig_02_09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1600200"/>
            <a:ext cx="822960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 Example of Program Execu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ose I have written the following High Level Language Inst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:= b+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w a, b , c are names given to some cells of memor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ose the address o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is B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 is C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 is A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ified 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ad the value stored in address C3 in some regis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ad the value stored in address AA in some registers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both the registers and store their answer in the third regis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t Back / Store the answer in the main memory at address B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op/ Halt the instr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chine Instru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gle High Level instructions gets translated into one or more Machine Level Instru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us Machine Instructions would b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C3   : Load R5 with the contents of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6AA : Load R6 with the content of 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56   : Add R5, R6 and store their result in R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0B2 :  Store the result saved in R0 to address B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000:   Halt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 Example of Program Execution (cont….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2666880" cy="4960800"/>
        </p:xfrm>
        <a:graphic>
          <a:graphicData uri="http://schemas.openxmlformats.org/drawingml/2006/table">
            <a:tbl>
              <a:tblPr/>
              <a:tblGrid>
                <a:gridCol w="1011240"/>
                <a:gridCol w="1655640"/>
              </a:tblGrid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A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A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267080" y="1600200"/>
          <a:ext cx="2895840" cy="4567320"/>
        </p:xfrm>
        <a:graphic>
          <a:graphicData uri="http://schemas.openxmlformats.org/drawingml/2006/table">
            <a:tbl>
              <a:tblPr/>
              <a:tblGrid>
                <a:gridCol w="1098360"/>
                <a:gridCol w="1797480"/>
              </a:tblGrid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first PC would be A0     IR would be emp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 : A2             IR: 15C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1: R5 would contain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:  A4              IR : 16A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2: R6 would contain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:  A6              IR: 505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3: R0 would contain 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 : A8              IR: 30B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4: Next value B would be copied to location B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: AA               IR: C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5: Hal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the end B2 i.e memory a would be containing the resul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ff b/w RAM and Regis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isters are used to hold data immediately applicable to the operation at h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in Memory is  used to hold data that would be needed in near fu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bus is a collection of wires. Through bus the CPU is able to extract or read data from main memory by supplying the addr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CPU can write data into memory by providing the address or destination of the cel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c 2.3 Program Execution Cyc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mputer follows a program stored in Main memory by copying one instruction at a time from memory to control un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ce in the Control Unit each instruction is decoded and obey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rder in which the instructions are fetched from memory correspond to the order in which they are stored in memory unless specified by JUM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chine Cyc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 Unit continually repeat a set of steps known a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chine Cycl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o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ecu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is Fetch ?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ring the Fetch the Control Unit requests the Main Memory to provide it with the instruction next to be execu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trol Unit knows the instruction address because it is kept in the Program Cou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trol Unit places the instruction received from memory in its Instruction Register and then increments the P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Decode 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the instruction now in the IR the control unit decodes the instruction, which involves breaking it up into Op-code and Opera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-code is the number that indicates the machine instruction that needs to be execu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rands are those that would be manipulated by the execution of the instr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80880" y="914400"/>
            <a:ext cx="8534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5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The composition of an instruction for the machine in Appendix 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fig_02_05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3387600"/>
            <a:ext cx="785484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30636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6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Decoding the instruction 35A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fig_02_06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2011320"/>
            <a:ext cx="78548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914400" y="420840"/>
            <a:ext cx="723888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7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An encoded version of the instructions in Figure 2.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fig_02_07"/>
          <p:cNvPicPr/>
          <p:nvPr/>
        </p:nvPicPr>
        <p:blipFill>
          <a:blip r:embed="rId1">
            <a:grayscl/>
          </a:blip>
          <a:stretch/>
        </p:blipFill>
        <p:spPr>
          <a:xfrm>
            <a:off x="1066680" y="2133720"/>
            <a:ext cx="632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8:38:44Z</dcterms:created>
  <dc:creator>saleharaza</dc:creator>
  <dc:description/>
  <dc:language>en-US</dc:language>
  <cp:lastModifiedBy>saleharaza</cp:lastModifiedBy>
  <dcterms:modified xsi:type="dcterms:W3CDTF">2009-09-09T10:02:31Z</dcterms:modified>
  <cp:revision>25</cp:revision>
  <dc:subject/>
  <dc:title>Lecture 3</dc:title>
</cp:coreProperties>
</file>