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A4DF-F5A0-46AB-898F-83A13C44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C5A5B-4E4A-4F07-8845-843CFADC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E868D-FB2A-4965-BCAB-940BD3DC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83F5-B027-4A48-9D7C-27DB4F70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4FEB-2DF9-4A48-9716-5E208617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159A-0A90-452A-B8CA-BC5EB3B3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FCE4-9246-43E3-81D0-B5263561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045B-8E33-4638-A8E6-C70445B8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BDD5-1416-4B93-ADA2-4C8FAED0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08CD-3B98-4C0E-88CA-77D8E3C9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CE7D-58E6-4960-9FDC-E767335C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03A1-EF20-40CD-80BA-2B0EB5ED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9FF8-B1B8-4F64-9169-F3C2C26E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70C6-ABEE-410B-893E-E51879D4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4341-123A-453A-935E-692FB8E6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CC26-8B67-4727-83AD-3A1E6683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C3CE-0C7D-41ED-A86C-BE2F08E5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682EA-371B-42C7-9D43-42BF4B02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1081B-5DA2-448F-B1A4-DBCC9562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A387B-9AEE-4CE8-A57B-1B4319ED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18C27-7B81-4E19-8CB3-511B80B6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0044E-0D20-4C1F-AA8F-CB1FA195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639D0-9B88-4C41-88D9-03532BDF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2E5A-4A36-4790-AF9D-FEEDA533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542B-A742-4DB8-93C5-2EC9E1420A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D572-2F42-4FC3-8140-16FDCE7199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cture 3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Execute 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then executes the instruction by activating the proper circuitry to perform the requested ta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the instruction is LOAD from memory the CU causes the load to occ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the Execute is over the Control Unit begins the cycle ag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About the JUMP Instruction ?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are two kinds of Jump Conditional and Unconditional Jum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ditional Jump would be executed only if certain condition is me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I have instruction B43C then B is the opcode for jump , 4 stands for Register R4 , 3C is the memory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????????????????????????????????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means that the Control Unit would first compare the contents of Register 4 with Register 0 if both are equal then the Control would put the address 3C into P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Program Execution would be altered and the instructions in between would be skipp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ever if R0 and R4 are not equal then normal execution would be continu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1522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9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Decoding the instruction B25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fig_02_09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1600200"/>
            <a:ext cx="82296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 Example of Program Execu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se I have written the following High Level Language Inst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:= b+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w a, b , c are names given to some cells of memor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uppose the address o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is B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 is C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 is A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ified 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ad the value stored in address C3 in some regis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ad the value stored in address AA in some registers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dd both the registers and store their answer in the third regis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t Back / Store the answer in the main memory at address B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op/ Halt the instr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chine Instruc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ngle High Level instructions gets translated into one or more Machine Level Instru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us Machine Instructions would b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5C3   : Load R5 with the contents of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6AA : Load R6 with the content of 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056   : Add R5, R6 and store their result in R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0B2 :  Store the result saved in R0 to address B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000:   Halt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n Example of Program Execution (cont….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2666880" cy="4960800"/>
        </p:xfrm>
        <a:graphic>
          <a:graphicData uri="http://schemas.openxmlformats.org/drawingml/2006/table">
            <a:tbl>
              <a:tblPr/>
              <a:tblGrid>
                <a:gridCol w="1011240"/>
                <a:gridCol w="1655640"/>
              </a:tblGrid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A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A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267080" y="1600200"/>
          <a:ext cx="2895840" cy="4567320"/>
        </p:xfrm>
        <a:graphic>
          <a:graphicData uri="http://schemas.openxmlformats.org/drawingml/2006/table">
            <a:tbl>
              <a:tblPr/>
              <a:tblGrid>
                <a:gridCol w="1098360"/>
                <a:gridCol w="1797480"/>
              </a:tblGrid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B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.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 first PC would be A0     IR would be emp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 : A2             IR: 15C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1: R5 would contain  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 A4              IR : 16A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2: R6 would contain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 A6              IR: 5056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3: R0 would contain 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 : A8              IR: 30B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4: Next value B would be copied to location B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----------------------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C: AA               IR: C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p 5: Hal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the end B2 i.e memory a would be containing the resul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ff b/w RAM and Regis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isters are used to hold data immediately applicable to the operation at h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in Memory is  used to hold data that would be needed in nea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bus is a collection of wires. Through bus the CPU is able to extract or read data from main memory by supplying the addres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so CPU can write data into memory by providing the address or destination of the cel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c 2.3 Program Execution Cy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computer follows a program stored in Main memory by copying one instruction at a time from memory to control un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ce in the Control Unit each instruction is decoded and obey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order in which the instructions are fetched from memory correspond to the order in which they are stored in memory unless specified by JUM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achine Cyc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 Unit continually repeat a set of steps known a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chine Cycl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t 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t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o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ecu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is Fetch ?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uring the Fetch the Control Unit requests the Main Memory to provide it with the instruction next to be execu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knows the instruction address because it is kept in the Program Cou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trol Unit places the instruction received from memory in its Instruction Register and then increments the P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is Decode ?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the instruction now in the IR the control unit decodes the instruction, which involves breaking it up into Op-code and Operand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-code is the number that indicates the machine instruction that needs to be execu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rands are those that would be manipulated by the execution of the instr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80880" y="914400"/>
            <a:ext cx="8534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5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The composition of an instruction for the machine in Appendix 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fig_02_05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3387600"/>
            <a:ext cx="785484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30636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6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Decoding the instruction 35A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fig_02_06"/>
          <p:cNvPicPr/>
          <p:nvPr/>
        </p:nvPicPr>
        <p:blipFill>
          <a:blip r:embed="rId1">
            <a:grayscl/>
          </a:blip>
          <a:stretch/>
        </p:blipFill>
        <p:spPr>
          <a:xfrm>
            <a:off x="533520" y="2011320"/>
            <a:ext cx="78548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914400" y="420840"/>
            <a:ext cx="723888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Figure 2.7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An encoded version of the instructions in Figure 2.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fig_02_07"/>
          <p:cNvPicPr/>
          <p:nvPr/>
        </p:nvPicPr>
        <p:blipFill>
          <a:blip r:embed="rId1">
            <a:grayscl/>
          </a:blip>
          <a:stretch/>
        </p:blipFill>
        <p:spPr>
          <a:xfrm>
            <a:off x="1066680" y="2133720"/>
            <a:ext cx="6324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8:38:44Z</dcterms:created>
  <dc:creator>saleharaza</dc:creator>
  <dc:description/>
  <dc:language>en-US</dc:language>
  <cp:lastModifiedBy>saleharaza</cp:lastModifiedBy>
  <dcterms:modified xsi:type="dcterms:W3CDTF">2009-09-09T10:02:31Z</dcterms:modified>
  <cp:revision>25</cp:revision>
  <dc:subject/>
  <dc:title>Lecture 3</dc:title>
</cp:coreProperties>
</file>