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4F2-0E6C-4742-AA0D-73F17C50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128D-DD5F-42F1-A4F6-A16D2059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F81-0742-4D1A-84E6-255CF302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48D-8214-4F55-B6D4-17BB4421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EAF-4B73-44FF-92C4-D3988546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336-298D-4E8F-BE1C-D23652D7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125-70A2-4CB2-ACFE-468F934C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FEC4-BDB8-4F5E-8D5C-590D4260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6EA-CAF6-452E-8BAE-A4AAA98B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040C-24C9-46D1-85B6-2EA1667A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DDF-D49A-416F-9E89-34E5A020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510-C0C7-42ED-BC21-365F8D13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9A12-5746-473D-AB90-CEFA501AF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3886200" y="2286000"/>
            <a:ext cx="1333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3809880" y="2743200"/>
            <a:ext cx="152424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octal digit to a 3-bit equivalent binary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05320" y="2666880"/>
            <a:ext cx="2666880" cy="1572120"/>
            <a:chOff x="3505320" y="2666880"/>
            <a:chExt cx="2666880" cy="1572120"/>
          </a:xfrm>
        </p:grpSpPr>
        <p:sp>
          <p:nvSpPr>
            <p:cNvPr id="85" name="Text Box 5"/>
            <p:cNvSpPr/>
            <p:nvPr/>
          </p:nvSpPr>
          <p:spPr>
            <a:xfrm>
              <a:off x="3505320" y="2666880"/>
              <a:ext cx="2666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7   0  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11 000 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6"/>
            <p:cNvSpPr/>
            <p:nvPr/>
          </p:nvSpPr>
          <p:spPr>
            <a:xfrm>
              <a:off x="380988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7"/>
            <p:cNvSpPr/>
            <p:nvPr/>
          </p:nvSpPr>
          <p:spPr>
            <a:xfrm>
              <a:off x="45720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"/>
            <p:cNvSpPr/>
            <p:nvPr/>
          </p:nvSpPr>
          <p:spPr>
            <a:xfrm>
              <a:off x="533412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9"/>
          <p:cNvSpPr/>
          <p:nvPr/>
        </p:nvSpPr>
        <p:spPr>
          <a:xfrm>
            <a:off x="5181480" y="5257800"/>
            <a:ext cx="358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1000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924360" y="4495680"/>
            <a:ext cx="129528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hexadecimal digit to a 4-bit equivalent binary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A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2819520" y="2666880"/>
            <a:ext cx="3809880" cy="1572120"/>
            <a:chOff x="2819520" y="2666880"/>
            <a:chExt cx="3809880" cy="1572120"/>
          </a:xfrm>
        </p:grpSpPr>
        <p:sp>
          <p:nvSpPr>
            <p:cNvPr id="101" name="Text Box 5"/>
            <p:cNvSpPr/>
            <p:nvPr/>
          </p:nvSpPr>
          <p:spPr>
            <a:xfrm>
              <a:off x="2819520" y="2666880"/>
              <a:ext cx="3809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0    A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01 0000 1010 1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32004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41148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50292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601992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10"/>
          <p:cNvSpPr/>
          <p:nvPr/>
        </p:nvSpPr>
        <p:spPr>
          <a:xfrm>
            <a:off x="4038480" y="53341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A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0001000010101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924360" y="2362320"/>
            <a:ext cx="129528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rack of the 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095640" y="23526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  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54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3949560" y="2438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949560" y="274320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3078000" y="2743200"/>
            <a:ext cx="3106800" cy="825480"/>
            <a:chOff x="3078000" y="2743200"/>
            <a:chExt cx="3106800" cy="825480"/>
          </a:xfrm>
        </p:grpSpPr>
        <p:sp>
          <p:nvSpPr>
            <p:cNvPr id="121" name="Text Box 8"/>
            <p:cNvSpPr/>
            <p:nvPr/>
          </p:nvSpPr>
          <p:spPr>
            <a:xfrm>
              <a:off x="3078000" y="274320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9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>
              <a:off x="3931920" y="28285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>
              <a:off x="3931920" y="313344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3081240" y="3139920"/>
            <a:ext cx="3106800" cy="825480"/>
            <a:chOff x="3081240" y="3139920"/>
            <a:chExt cx="3106800" cy="825480"/>
          </a:xfrm>
        </p:grpSpPr>
        <p:sp>
          <p:nvSpPr>
            <p:cNvPr id="125" name="Text Box 12"/>
            <p:cNvSpPr/>
            <p:nvPr/>
          </p:nvSpPr>
          <p:spPr>
            <a:xfrm>
              <a:off x="3081240" y="31399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>
              <a:off x="3935160" y="32256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>
              <a:off x="3935160" y="35305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5"/>
          <p:cNvGrpSpPr/>
          <p:nvPr/>
        </p:nvGrpSpPr>
        <p:grpSpPr>
          <a:xfrm>
            <a:off x="3081240" y="3530520"/>
            <a:ext cx="3106800" cy="825480"/>
            <a:chOff x="3081240" y="3530520"/>
            <a:chExt cx="3106800" cy="825480"/>
          </a:xfrm>
        </p:grpSpPr>
        <p:sp>
          <p:nvSpPr>
            <p:cNvPr id="129" name="Text Box 16"/>
            <p:cNvSpPr/>
            <p:nvPr/>
          </p:nvSpPr>
          <p:spPr>
            <a:xfrm>
              <a:off x="3081240" y="35305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>
              <a:off x="3935160" y="36158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>
              <a:off x="3935160" y="392076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19"/>
          <p:cNvSpPr/>
          <p:nvPr/>
        </p:nvSpPr>
        <p:spPr>
          <a:xfrm>
            <a:off x="6019920" y="5029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32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20"/>
          <p:cNvSpPr/>
          <p:nvPr/>
        </p:nvSpPr>
        <p:spPr>
          <a:xfrm>
            <a:off x="5867280" y="2895480"/>
            <a:ext cx="2514600" cy="205740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3657600" y="2666880"/>
            <a:ext cx="1676520" cy="152424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8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rack of the 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3048120" y="2362320"/>
            <a:ext cx="3045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1371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019920" y="5029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4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5"/>
          <p:cNvSpPr/>
          <p:nvPr/>
        </p:nvSpPr>
        <p:spPr>
          <a:xfrm>
            <a:off x="5867280" y="2776680"/>
            <a:ext cx="2395800" cy="221112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3276720" y="2352600"/>
            <a:ext cx="3581280" cy="1596960"/>
            <a:chOff x="3276720" y="2352600"/>
            <a:chExt cx="3581280" cy="1596960"/>
          </a:xfrm>
        </p:grpSpPr>
        <p:sp>
          <p:nvSpPr>
            <p:cNvPr id="148" name="Text Box 7"/>
            <p:cNvSpPr/>
            <p:nvPr/>
          </p:nvSpPr>
          <p:spPr>
            <a:xfrm>
              <a:off x="3276720" y="2352600"/>
              <a:ext cx="246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6  12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77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3949560" y="2438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3949560" y="274320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10"/>
            <p:cNvGrpSpPr/>
            <p:nvPr/>
          </p:nvGrpSpPr>
          <p:grpSpPr>
            <a:xfrm>
              <a:off x="3308400" y="2739960"/>
              <a:ext cx="3549600" cy="825480"/>
              <a:chOff x="3308400" y="2739960"/>
              <a:chExt cx="3549600" cy="825480"/>
            </a:xfrm>
          </p:grpSpPr>
          <p:sp>
            <p:nvSpPr>
              <p:cNvPr id="152" name="Text Box 11"/>
              <p:cNvSpPr/>
              <p:nvPr/>
            </p:nvSpPr>
            <p:spPr>
              <a:xfrm>
                <a:off x="3308400" y="2739960"/>
                <a:ext cx="354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4   13 = 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3933720" y="2825640"/>
                <a:ext cx="180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13"/>
              <p:cNvSpPr/>
              <p:nvPr/>
            </p:nvSpPr>
            <p:spPr>
              <a:xfrm>
                <a:off x="3933720" y="3121200"/>
                <a:ext cx="1038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14"/>
            <p:cNvGrpSpPr/>
            <p:nvPr/>
          </p:nvGrpSpPr>
          <p:grpSpPr>
            <a:xfrm>
              <a:off x="3308400" y="3124080"/>
              <a:ext cx="3549600" cy="825480"/>
              <a:chOff x="3308400" y="3124080"/>
              <a:chExt cx="3549600" cy="825480"/>
            </a:xfrm>
          </p:grpSpPr>
          <p:sp>
            <p:nvSpPr>
              <p:cNvPr id="156" name="Text Box 15"/>
              <p:cNvSpPr/>
              <p:nvPr/>
            </p:nvSpPr>
            <p:spPr>
              <a:xfrm>
                <a:off x="3308400" y="3124080"/>
                <a:ext cx="354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0   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16"/>
              <p:cNvSpPr/>
              <p:nvPr/>
            </p:nvSpPr>
            <p:spPr>
              <a:xfrm>
                <a:off x="3933720" y="3209760"/>
                <a:ext cx="180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17"/>
              <p:cNvSpPr/>
              <p:nvPr/>
            </p:nvSpPr>
            <p:spPr>
              <a:xfrm>
                <a:off x="3933720" y="3505320"/>
                <a:ext cx="1038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3809880" y="2743200"/>
            <a:ext cx="175284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bits in threes, starting on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o octal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01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3429000" y="2666880"/>
            <a:ext cx="4267080" cy="1622520"/>
            <a:chOff x="3429000" y="2666880"/>
            <a:chExt cx="4267080" cy="1622520"/>
          </a:xfrm>
        </p:grpSpPr>
        <p:sp>
          <p:nvSpPr>
            <p:cNvPr id="170" name="Text Box 5"/>
            <p:cNvSpPr/>
            <p:nvPr/>
          </p:nvSpPr>
          <p:spPr>
            <a:xfrm>
              <a:off x="3429000" y="2666880"/>
              <a:ext cx="4267080" cy="16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011 010 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3   2   7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6"/>
            <p:cNvSpPr/>
            <p:nvPr/>
          </p:nvSpPr>
          <p:spPr>
            <a:xfrm>
              <a:off x="3549600" y="31240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7"/>
            <p:cNvSpPr/>
            <p:nvPr/>
          </p:nvSpPr>
          <p:spPr>
            <a:xfrm>
              <a:off x="42354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>
              <a:off x="49212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56070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0"/>
          <p:cNvSpPr/>
          <p:nvPr/>
        </p:nvSpPr>
        <p:spPr>
          <a:xfrm>
            <a:off x="4572000" y="541008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01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32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3962520" y="4495680"/>
            <a:ext cx="121896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bits in fours, starting on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o hexadecimal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429000" y="2666880"/>
            <a:ext cx="42670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 1011 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35812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44956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54100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648320" y="55627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6629400" y="2895480"/>
            <a:ext cx="0" cy="11430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inary as an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828800" y="2638440"/>
            <a:ext cx="66294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2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4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6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5562720" y="37814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7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3048120" y="2104920"/>
            <a:ext cx="4267080" cy="2785320"/>
            <a:chOff x="3048120" y="2104920"/>
            <a:chExt cx="4267080" cy="2785320"/>
          </a:xfrm>
        </p:grpSpPr>
        <p:sp>
          <p:nvSpPr>
            <p:cNvPr id="202" name="Text Box 5"/>
            <p:cNvSpPr/>
            <p:nvPr/>
          </p:nvSpPr>
          <p:spPr>
            <a:xfrm>
              <a:off x="3048120" y="2104920"/>
              <a:ext cx="426708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0     7  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1  000   111   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6"/>
            <p:cNvSpPr/>
            <p:nvPr/>
          </p:nvSpPr>
          <p:spPr>
            <a:xfrm>
              <a:off x="34290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7"/>
            <p:cNvSpPr/>
            <p:nvPr/>
          </p:nvSpPr>
          <p:spPr>
            <a:xfrm>
              <a:off x="54100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43434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65530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10"/>
          <p:cNvGrpSpPr/>
          <p:nvPr/>
        </p:nvGrpSpPr>
        <p:grpSpPr>
          <a:xfrm>
            <a:off x="3505320" y="3317760"/>
            <a:ext cx="3276360" cy="1256760"/>
            <a:chOff x="3505320" y="3317760"/>
            <a:chExt cx="3276360" cy="1256760"/>
          </a:xfrm>
        </p:grpSpPr>
        <p:sp>
          <p:nvSpPr>
            <p:cNvPr id="208" name="Text Box 11"/>
            <p:cNvSpPr/>
            <p:nvPr/>
          </p:nvSpPr>
          <p:spPr>
            <a:xfrm>
              <a:off x="3505320" y="411480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 3      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2"/>
            <p:cNvSpPr/>
            <p:nvPr/>
          </p:nvSpPr>
          <p:spPr>
            <a:xfrm>
              <a:off x="5518080" y="331776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>
              <a:off x="4222800" y="331776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Text Box 14"/>
          <p:cNvSpPr/>
          <p:nvPr/>
        </p:nvSpPr>
        <p:spPr>
          <a:xfrm>
            <a:off x="4724280" y="5638680"/>
            <a:ext cx="426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7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3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6629400" y="2895480"/>
            <a:ext cx="0" cy="1143000"/>
          </a:xfrm>
          <a:prstGeom prst="line">
            <a:avLst/>
          </a:prstGeom>
          <a:ln w="5724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inary as an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27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F0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1028"/>
          <p:cNvGrpSpPr/>
          <p:nvPr/>
        </p:nvGrpSpPr>
        <p:grpSpPr>
          <a:xfrm>
            <a:off x="3048120" y="2104920"/>
            <a:ext cx="4876560" cy="2785320"/>
            <a:chOff x="3048120" y="2104920"/>
            <a:chExt cx="4876560" cy="2785320"/>
          </a:xfrm>
        </p:grpSpPr>
        <p:sp>
          <p:nvSpPr>
            <p:cNvPr id="223" name="Text Box 1029"/>
            <p:cNvSpPr/>
            <p:nvPr/>
          </p:nvSpPr>
          <p:spPr>
            <a:xfrm>
              <a:off x="3048120" y="2104920"/>
              <a:ext cx="487656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 F      0     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01  1111   0000   1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030"/>
            <p:cNvSpPr/>
            <p:nvPr/>
          </p:nvSpPr>
          <p:spPr>
            <a:xfrm>
              <a:off x="35812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031"/>
            <p:cNvSpPr/>
            <p:nvPr/>
          </p:nvSpPr>
          <p:spPr>
            <a:xfrm>
              <a:off x="59436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032"/>
            <p:cNvSpPr/>
            <p:nvPr/>
          </p:nvSpPr>
          <p:spPr>
            <a:xfrm>
              <a:off x="464832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033"/>
            <p:cNvSpPr/>
            <p:nvPr/>
          </p:nvSpPr>
          <p:spPr>
            <a:xfrm>
              <a:off x="72388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034"/>
          <p:cNvGrpSpPr/>
          <p:nvPr/>
        </p:nvGrpSpPr>
        <p:grpSpPr>
          <a:xfrm>
            <a:off x="3324240" y="3349800"/>
            <a:ext cx="4403880" cy="1148400"/>
            <a:chOff x="3324240" y="3349800"/>
            <a:chExt cx="4403880" cy="1148400"/>
          </a:xfrm>
        </p:grpSpPr>
        <p:sp>
          <p:nvSpPr>
            <p:cNvPr id="229" name="Text Box 1035"/>
            <p:cNvSpPr/>
            <p:nvPr/>
          </p:nvSpPr>
          <p:spPr>
            <a:xfrm>
              <a:off x="3505320" y="4038480"/>
              <a:ext cx="42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7   4     1  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036"/>
            <p:cNvSpPr/>
            <p:nvPr/>
          </p:nvSpPr>
          <p:spPr>
            <a:xfrm>
              <a:off x="696600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037"/>
            <p:cNvSpPr/>
            <p:nvPr/>
          </p:nvSpPr>
          <p:spPr>
            <a:xfrm>
              <a:off x="588024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038"/>
            <p:cNvSpPr/>
            <p:nvPr/>
          </p:nvSpPr>
          <p:spPr>
            <a:xfrm>
              <a:off x="477828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039"/>
            <p:cNvSpPr/>
            <p:nvPr/>
          </p:nvSpPr>
          <p:spPr>
            <a:xfrm>
              <a:off x="403848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040"/>
            <p:cNvSpPr/>
            <p:nvPr/>
          </p:nvSpPr>
          <p:spPr>
            <a:xfrm>
              <a:off x="332424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1041"/>
          <p:cNvSpPr/>
          <p:nvPr/>
        </p:nvSpPr>
        <p:spPr>
          <a:xfrm>
            <a:off x="4648320" y="563868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F0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741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 flipH="1" flipV="1">
            <a:off x="3733560" y="2743200"/>
            <a:ext cx="152388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16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219320" y="2760840"/>
            <a:ext cx="708660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2 x   1 =   1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 x  16 =  17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0 x 256 = 25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4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6781680" y="39322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H="1">
            <a:off x="3886200" y="2286000"/>
            <a:ext cx="1333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8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828800" y="2638440"/>
            <a:ext cx="66294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2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4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6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5562720" y="37814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0:47:57Z</dcterms:created>
  <dc:creator>zohair</dc:creator>
  <dc:description/>
  <dc:language>en-US</dc:language>
  <cp:lastModifiedBy>admin</cp:lastModifiedBy>
  <dcterms:modified xsi:type="dcterms:W3CDTF">2009-09-16T19:06:27Z</dcterms:modified>
  <cp:revision>10</cp:revision>
  <dc:subject/>
  <dc:title>PowerPoint Presentation</dc:title>
</cp:coreProperties>
</file>