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DAF-8BB2-42D1-BE4A-540149D2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9FA-1C96-41A5-842D-10DA79D9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1F0-5A55-4A06-B40E-7BE23807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B80-A059-432B-95B6-E1E30B94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9DE-F0E4-4839-B90C-8938B18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335-AB4A-4B66-AAFC-E0F15399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23C-DB56-4D78-A633-A9DDC50F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BA8-5311-4643-A2BE-472267F0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3E92-21CC-4099-A3CB-3A8A72AF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ACC-BB1D-4878-B9D4-C0F6464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F9D-F79F-4E86-AA9B-C3D7AFA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001-57CC-46C1-A079-FD10520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F78E-4A4A-4607-982D-98F860D0E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octal digit to a 3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8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Bin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each hexadecimal digit to a 4-bit equivalent binary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101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121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125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129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20"/>
          <p:cNvSpPr/>
          <p:nvPr/>
        </p:nvSpPr>
        <p:spPr>
          <a:xfrm>
            <a:off x="5867280" y="2895480"/>
            <a:ext cx="2514600" cy="20574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im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by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rack of the remai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3048120" y="2362320"/>
            <a:ext cx="3045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"/>
          <p:cNvSpPr/>
          <p:nvPr/>
        </p:nvSpPr>
        <p:spPr>
          <a:xfrm>
            <a:off x="5867280" y="2776680"/>
            <a:ext cx="2395800" cy="221112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148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152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156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three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oct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170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bits in fours, starting 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t to hexadecimal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Hexa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202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208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Oc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binary as an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27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028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223" name="Text Box 1029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30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031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1032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033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Group 1034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229" name="Text Box 1035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036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037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038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039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040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041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xadecim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16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tal to Deci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each bit by 8</a:t>
            </a:r>
            <a:r>
              <a:rPr b="0" i="1" lang="en-US" sz="29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“weight” of the b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ight is the position of the bit, starting from 0 on th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0:47:57Z</dcterms:created>
  <dc:creator>zohair</dc:creator>
  <dc:description/>
  <dc:language>en-US</dc:language>
  <cp:lastModifiedBy>admin</cp:lastModifiedBy>
  <dcterms:modified xsi:type="dcterms:W3CDTF">2009-09-16T19:06:27Z</dcterms:modified>
  <cp:revision>10</cp:revision>
  <dc:subject/>
  <dc:title>PowerPoint Presentation</dc:title>
</cp:coreProperties>
</file>