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9F0A-26D7-4143-8023-49F1F5DD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AD5-A8F8-40D0-B4CE-1266D435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2CD-B17B-4B1C-BA12-A5FADD56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A0C-3B82-4267-B31C-419B6A90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DBC-003A-4B73-B959-E8DDECD7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76A0-590B-4949-A2BD-4FA4C7F0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286-9785-4D46-A3BF-BDE34347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CFD-0382-4078-BF8D-A6EEDCF4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B24-E6C2-4AC2-AFD5-0036E132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3CB-F1E5-45F9-B568-ECB41F02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9E8-67AB-4BEE-AE2E-2CA1A710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A27-45FE-474E-B09A-73197B02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D49C-BF48-41CB-BE29-D5E3C47B3A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809880" y="2743200"/>
            <a:ext cx="15242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octal digit to a 3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05320" y="2666880"/>
            <a:ext cx="2666880" cy="1572120"/>
            <a:chOff x="3505320" y="2666880"/>
            <a:chExt cx="2666880" cy="1572120"/>
          </a:xfrm>
        </p:grpSpPr>
        <p:sp>
          <p:nvSpPr>
            <p:cNvPr id="85" name="Text Box 5"/>
            <p:cNvSpPr/>
            <p:nvPr/>
          </p:nvSpPr>
          <p:spPr>
            <a:xfrm>
              <a:off x="3505320" y="2666880"/>
              <a:ext cx="2666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   0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11 000 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380988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45720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53341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9"/>
          <p:cNvSpPr/>
          <p:nvPr/>
        </p:nvSpPr>
        <p:spPr>
          <a:xfrm>
            <a:off x="5181480" y="525780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1000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924360" y="449568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hexadecimal digit to a 4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819520" y="2666880"/>
            <a:ext cx="3809880" cy="1572120"/>
            <a:chOff x="2819520" y="2666880"/>
            <a:chExt cx="3809880" cy="1572120"/>
          </a:xfrm>
        </p:grpSpPr>
        <p:sp>
          <p:nvSpPr>
            <p:cNvPr id="101" name="Text Box 5"/>
            <p:cNvSpPr/>
            <p:nvPr/>
          </p:nvSpPr>
          <p:spPr>
            <a:xfrm>
              <a:off x="2819520" y="2666880"/>
              <a:ext cx="3809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A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0000 1010 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32004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1148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0292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99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10"/>
          <p:cNvSpPr/>
          <p:nvPr/>
        </p:nvSpPr>
        <p:spPr>
          <a:xfrm>
            <a:off x="4038480" y="53341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001000010101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924360" y="236232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095640" y="23526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  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54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3949560" y="2438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949560" y="27432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078000" y="2743200"/>
            <a:ext cx="3106800" cy="825480"/>
            <a:chOff x="3078000" y="2743200"/>
            <a:chExt cx="3106800" cy="825480"/>
          </a:xfrm>
        </p:grpSpPr>
        <p:sp>
          <p:nvSpPr>
            <p:cNvPr id="121" name="Text Box 8"/>
            <p:cNvSpPr/>
            <p:nvPr/>
          </p:nvSpPr>
          <p:spPr>
            <a:xfrm>
              <a:off x="3078000" y="274320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9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931920" y="28285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3931920" y="313344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3081240" y="3139920"/>
            <a:ext cx="3106800" cy="825480"/>
            <a:chOff x="3081240" y="3139920"/>
            <a:chExt cx="3106800" cy="825480"/>
          </a:xfrm>
        </p:grpSpPr>
        <p:sp>
          <p:nvSpPr>
            <p:cNvPr id="125" name="Text Box 12"/>
            <p:cNvSpPr/>
            <p:nvPr/>
          </p:nvSpPr>
          <p:spPr>
            <a:xfrm>
              <a:off x="3081240" y="31399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3935160" y="3225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3935160" y="3530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5"/>
          <p:cNvGrpSpPr/>
          <p:nvPr/>
        </p:nvGrpSpPr>
        <p:grpSpPr>
          <a:xfrm>
            <a:off x="3081240" y="3530520"/>
            <a:ext cx="3106800" cy="825480"/>
            <a:chOff x="3081240" y="3530520"/>
            <a:chExt cx="3106800" cy="825480"/>
          </a:xfrm>
        </p:grpSpPr>
        <p:sp>
          <p:nvSpPr>
            <p:cNvPr id="129" name="Text Box 16"/>
            <p:cNvSpPr/>
            <p:nvPr/>
          </p:nvSpPr>
          <p:spPr>
            <a:xfrm>
              <a:off x="3081240" y="35305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3935160" y="3615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>
              <a:off x="3935160" y="392076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19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0"/>
          <p:cNvSpPr/>
          <p:nvPr/>
        </p:nvSpPr>
        <p:spPr>
          <a:xfrm>
            <a:off x="5867280" y="2895480"/>
            <a:ext cx="2514600" cy="205740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3657600" y="2666880"/>
            <a:ext cx="1676520" cy="152424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1371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4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5867280" y="2776680"/>
            <a:ext cx="2395800" cy="22111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276720" y="2352600"/>
            <a:ext cx="3581280" cy="1596960"/>
            <a:chOff x="3276720" y="2352600"/>
            <a:chExt cx="3581280" cy="1596960"/>
          </a:xfrm>
        </p:grpSpPr>
        <p:sp>
          <p:nvSpPr>
            <p:cNvPr id="148" name="Text Box 7"/>
            <p:cNvSpPr/>
            <p:nvPr/>
          </p:nvSpPr>
          <p:spPr>
            <a:xfrm>
              <a:off x="3276720" y="2352600"/>
              <a:ext cx="24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6  1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7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3949560" y="2438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3949560" y="274320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0"/>
            <p:cNvGrpSpPr/>
            <p:nvPr/>
          </p:nvGrpSpPr>
          <p:grpSpPr>
            <a:xfrm>
              <a:off x="3308400" y="2739960"/>
              <a:ext cx="3549600" cy="825480"/>
              <a:chOff x="3308400" y="2739960"/>
              <a:chExt cx="3549600" cy="825480"/>
            </a:xfrm>
          </p:grpSpPr>
          <p:sp>
            <p:nvSpPr>
              <p:cNvPr id="152" name="Text Box 11"/>
              <p:cNvSpPr/>
              <p:nvPr/>
            </p:nvSpPr>
            <p:spPr>
              <a:xfrm>
                <a:off x="3308400" y="273996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4   13 = 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3933720" y="282564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3"/>
              <p:cNvSpPr/>
              <p:nvPr/>
            </p:nvSpPr>
            <p:spPr>
              <a:xfrm>
                <a:off x="3933720" y="312120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14"/>
            <p:cNvGrpSpPr/>
            <p:nvPr/>
          </p:nvGrpSpPr>
          <p:grpSpPr>
            <a:xfrm>
              <a:off x="3308400" y="3124080"/>
              <a:ext cx="3549600" cy="825480"/>
              <a:chOff x="3308400" y="3124080"/>
              <a:chExt cx="3549600" cy="825480"/>
            </a:xfrm>
          </p:grpSpPr>
          <p:sp>
            <p:nvSpPr>
              <p:cNvPr id="156" name="Text Box 15"/>
              <p:cNvSpPr/>
              <p:nvPr/>
            </p:nvSpPr>
            <p:spPr>
              <a:xfrm>
                <a:off x="3308400" y="312408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0   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6"/>
              <p:cNvSpPr/>
              <p:nvPr/>
            </p:nvSpPr>
            <p:spPr>
              <a:xfrm>
                <a:off x="3933720" y="320976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>
                <a:off x="3933720" y="350532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809880" y="2743200"/>
            <a:ext cx="17528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three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oct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3429000" y="2666880"/>
            <a:ext cx="4267080" cy="1622520"/>
            <a:chOff x="3429000" y="2666880"/>
            <a:chExt cx="4267080" cy="1622520"/>
          </a:xfrm>
        </p:grpSpPr>
        <p:sp>
          <p:nvSpPr>
            <p:cNvPr id="170" name="Text Box 5"/>
            <p:cNvSpPr/>
            <p:nvPr/>
          </p:nvSpPr>
          <p:spPr>
            <a:xfrm>
              <a:off x="3429000" y="2666880"/>
              <a:ext cx="4267080" cy="16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011 010 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3   2   7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3549600" y="31240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>
              <a:off x="42354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49212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56070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0"/>
          <p:cNvSpPr/>
          <p:nvPr/>
        </p:nvSpPr>
        <p:spPr>
          <a:xfrm>
            <a:off x="4572000" y="54100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3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3962520" y="4495680"/>
            <a:ext cx="121896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four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hexadecim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429000" y="2666880"/>
            <a:ext cx="4267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 1011 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5812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44956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4100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648320" y="55627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3048120" y="2104920"/>
            <a:ext cx="4267080" cy="2785320"/>
            <a:chOff x="3048120" y="2104920"/>
            <a:chExt cx="4267080" cy="2785320"/>
          </a:xfrm>
        </p:grpSpPr>
        <p:sp>
          <p:nvSpPr>
            <p:cNvPr id="202" name="Text Box 5"/>
            <p:cNvSpPr/>
            <p:nvPr/>
          </p:nvSpPr>
          <p:spPr>
            <a:xfrm>
              <a:off x="3048120" y="2104920"/>
              <a:ext cx="426708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 7  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1  000   111   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>
              <a:off x="34290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>
              <a:off x="5410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3434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6553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3505320" y="3317760"/>
            <a:ext cx="3276360" cy="1256760"/>
            <a:chOff x="3505320" y="3317760"/>
            <a:chExt cx="3276360" cy="1256760"/>
          </a:xfrm>
        </p:grpSpPr>
        <p:sp>
          <p:nvSpPr>
            <p:cNvPr id="208" name="Text Box 11"/>
            <p:cNvSpPr/>
            <p:nvPr/>
          </p:nvSpPr>
          <p:spPr>
            <a:xfrm>
              <a:off x="3505320" y="411480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 3      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51808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422280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Text Box 14"/>
          <p:cNvSpPr/>
          <p:nvPr/>
        </p:nvSpPr>
        <p:spPr>
          <a:xfrm>
            <a:off x="4724280" y="563868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27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028"/>
          <p:cNvGrpSpPr/>
          <p:nvPr/>
        </p:nvGrpSpPr>
        <p:grpSpPr>
          <a:xfrm>
            <a:off x="3048120" y="2104920"/>
            <a:ext cx="4876560" cy="2785320"/>
            <a:chOff x="3048120" y="2104920"/>
            <a:chExt cx="4876560" cy="2785320"/>
          </a:xfrm>
        </p:grpSpPr>
        <p:sp>
          <p:nvSpPr>
            <p:cNvPr id="223" name="Text Box 1029"/>
            <p:cNvSpPr/>
            <p:nvPr/>
          </p:nvSpPr>
          <p:spPr>
            <a:xfrm>
              <a:off x="3048120" y="2104920"/>
              <a:ext cx="487656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 F      0     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 1111   0000   1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030"/>
            <p:cNvSpPr/>
            <p:nvPr/>
          </p:nvSpPr>
          <p:spPr>
            <a:xfrm>
              <a:off x="35812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031"/>
            <p:cNvSpPr/>
            <p:nvPr/>
          </p:nvSpPr>
          <p:spPr>
            <a:xfrm>
              <a:off x="59436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032"/>
            <p:cNvSpPr/>
            <p:nvPr/>
          </p:nvSpPr>
          <p:spPr>
            <a:xfrm>
              <a:off x="464832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033"/>
            <p:cNvSpPr/>
            <p:nvPr/>
          </p:nvSpPr>
          <p:spPr>
            <a:xfrm>
              <a:off x="72388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034"/>
          <p:cNvGrpSpPr/>
          <p:nvPr/>
        </p:nvGrpSpPr>
        <p:grpSpPr>
          <a:xfrm>
            <a:off x="3324240" y="3349800"/>
            <a:ext cx="4403880" cy="1148400"/>
            <a:chOff x="3324240" y="3349800"/>
            <a:chExt cx="4403880" cy="1148400"/>
          </a:xfrm>
        </p:grpSpPr>
        <p:sp>
          <p:nvSpPr>
            <p:cNvPr id="229" name="Text Box 1035"/>
            <p:cNvSpPr/>
            <p:nvPr/>
          </p:nvSpPr>
          <p:spPr>
            <a:xfrm>
              <a:off x="3505320" y="4038480"/>
              <a:ext cx="42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7   4     1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036"/>
            <p:cNvSpPr/>
            <p:nvPr/>
          </p:nvSpPr>
          <p:spPr>
            <a:xfrm>
              <a:off x="696600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037"/>
            <p:cNvSpPr/>
            <p:nvPr/>
          </p:nvSpPr>
          <p:spPr>
            <a:xfrm>
              <a:off x="5880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038"/>
            <p:cNvSpPr/>
            <p:nvPr/>
          </p:nvSpPr>
          <p:spPr>
            <a:xfrm>
              <a:off x="47782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039"/>
            <p:cNvSpPr/>
            <p:nvPr/>
          </p:nvSpPr>
          <p:spPr>
            <a:xfrm>
              <a:off x="40384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40"/>
            <p:cNvSpPr/>
            <p:nvPr/>
          </p:nvSpPr>
          <p:spPr>
            <a:xfrm>
              <a:off x="3324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041"/>
          <p:cNvSpPr/>
          <p:nvPr/>
        </p:nvSpPr>
        <p:spPr>
          <a:xfrm>
            <a:off x="4648320" y="56386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741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 flipH="1" flipV="1">
            <a:off x="3733560" y="2743200"/>
            <a:ext cx="152388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16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219320" y="2760840"/>
            <a:ext cx="70866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2 x   1 =   1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 x  16 =  17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0 x 256 = 2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4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6781680" y="39322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0:47:57Z</dcterms:created>
  <dc:creator>zohair</dc:creator>
  <dc:description/>
  <dc:language>en-US</dc:language>
  <cp:lastModifiedBy>admin</cp:lastModifiedBy>
  <dcterms:modified xsi:type="dcterms:W3CDTF">2009-09-16T19:06:27Z</dcterms:modified>
  <cp:revision>10</cp:revision>
  <dc:subject/>
  <dc:title>PowerPoint Presentation</dc:title>
</cp:coreProperties>
</file>