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203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Introduction to Computer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95880"/>
            <a:ext cx="7925040" cy="0"/>
          </a:xfrm>
          <a:prstGeom prst="line">
            <a:avLst/>
          </a:prstGeom>
          <a:ln w="572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2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438280"/>
            <a:ext cx="66294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4724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25720" y="1266840"/>
            <a:ext cx="1371600" cy="685800"/>
          </a:xfrm>
          <a:prstGeom prst="wedgeRoundRectCallout">
            <a:avLst>
              <a:gd name="adj1" fmla="val 15972"/>
              <a:gd name="adj2" fmla="val 125000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“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895480"/>
            <a:ext cx="0" cy="10670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two, 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mainder is bit 0 (LSB, least-significant 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remainder is bi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43480" y="1295280"/>
            <a:ext cx="2057400" cy="825480"/>
            <a:chOff x="3543480" y="1295280"/>
            <a:chExt cx="2057400" cy="825480"/>
          </a:xfrm>
        </p:grpSpPr>
        <p:sp>
          <p:nvSpPr>
            <p:cNvPr id="94" name=""/>
            <p:cNvSpPr/>
            <p:nvPr/>
          </p:nvSpPr>
          <p:spPr>
            <a:xfrm>
              <a:off x="3543480" y="12952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125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62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620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1676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43480" y="1676520"/>
            <a:ext cx="2057400" cy="825480"/>
            <a:chOff x="3543480" y="1676520"/>
            <a:chExt cx="2057400" cy="825480"/>
          </a:xfrm>
        </p:grpSpPr>
        <p:sp>
          <p:nvSpPr>
            <p:cNvPr id="98" name=""/>
            <p:cNvSpPr/>
            <p:nvPr/>
          </p:nvSpPr>
          <p:spPr>
            <a:xfrm>
              <a:off x="3543480" y="16765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31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1752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2057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43480" y="2057400"/>
            <a:ext cx="2057400" cy="825480"/>
            <a:chOff x="3543480" y="2057400"/>
            <a:chExt cx="2057400" cy="825480"/>
          </a:xfrm>
        </p:grpSpPr>
        <p:sp>
          <p:nvSpPr>
            <p:cNvPr id="102" name=""/>
            <p:cNvSpPr/>
            <p:nvPr/>
          </p:nvSpPr>
          <p:spPr>
            <a:xfrm>
              <a:off x="3543480" y="2057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15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1337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24382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27280" y="2451240"/>
            <a:ext cx="2057400" cy="825480"/>
            <a:chOff x="3527280" y="2451240"/>
            <a:chExt cx="2057400" cy="825480"/>
          </a:xfrm>
        </p:grpSpPr>
        <p:sp>
          <p:nvSpPr>
            <p:cNvPr id="106" name=""/>
            <p:cNvSpPr/>
            <p:nvPr/>
          </p:nvSpPr>
          <p:spPr>
            <a:xfrm>
              <a:off x="3527280" y="24512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7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8160" y="25272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08160" y="28321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2846520"/>
            <a:ext cx="2057400" cy="825480"/>
            <a:chOff x="3559320" y="2846520"/>
            <a:chExt cx="2057400" cy="825480"/>
          </a:xfrm>
        </p:grpSpPr>
        <p:sp>
          <p:nvSpPr>
            <p:cNvPr id="110" name=""/>
            <p:cNvSpPr/>
            <p:nvPr/>
          </p:nvSpPr>
          <p:spPr>
            <a:xfrm>
              <a:off x="3559320" y="28465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3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02040" y="2922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2040" y="3227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59320" y="3228840"/>
            <a:ext cx="2057400" cy="825480"/>
            <a:chOff x="3559320" y="3228840"/>
            <a:chExt cx="2057400" cy="825480"/>
          </a:xfrm>
        </p:grpSpPr>
        <p:sp>
          <p:nvSpPr>
            <p:cNvPr id="114" name=""/>
            <p:cNvSpPr/>
            <p:nvPr/>
          </p:nvSpPr>
          <p:spPr>
            <a:xfrm>
              <a:off x="3559320" y="32288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1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02040" y="32688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2040" y="36100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43480" y="3610080"/>
            <a:ext cx="2057400" cy="825480"/>
            <a:chOff x="3543480" y="3610080"/>
            <a:chExt cx="2057400" cy="825480"/>
          </a:xfrm>
        </p:grpSpPr>
        <p:sp>
          <p:nvSpPr>
            <p:cNvPr id="118" name=""/>
            <p:cNvSpPr/>
            <p:nvPr/>
          </p:nvSpPr>
          <p:spPr>
            <a:xfrm>
              <a:off x="3543480" y="36100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0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3686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39909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486400" y="518148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4720" y="1828800"/>
            <a:ext cx="281916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73" y="68"/>
                  <a:pt x="740" y="64"/>
                  <a:pt x="1036" y="408"/>
                </a:cubicBezTo>
                <a:cubicBezTo>
                  <a:pt x="1332" y="752"/>
                  <a:pt x="1622" y="1719"/>
                  <a:pt x="1776" y="206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owers (1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819520" y="1828800"/>
          <a:ext cx="3504960" cy="4038480"/>
        </p:xfrm>
        <a:graphic>
          <a:graphicData uri="http://schemas.openxmlformats.org/drawingml/2006/table">
            <a:tbl>
              <a:tblPr/>
              <a:tblGrid>
                <a:gridCol w="799200"/>
                <a:gridCol w="1414440"/>
                <a:gridCol w="1291320"/>
              </a:tblGrid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324480" y="1828800"/>
          <a:ext cx="1752840" cy="403848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00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owers (2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81360" y="1828800"/>
          <a:ext cx="3543120" cy="1828800"/>
        </p:xfrm>
        <a:graphic>
          <a:graphicData uri="http://schemas.openxmlformats.org/drawingml/2006/table">
            <a:tbl>
              <a:tblPr/>
              <a:tblGrid>
                <a:gridCol w="807840"/>
                <a:gridCol w="1429920"/>
                <a:gridCol w="1305360"/>
              </a:tblGrid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324480" y="1828800"/>
          <a:ext cx="1524240" cy="18288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85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37418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59880" y="4114800"/>
            <a:ext cx="71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value of “k”, “M”, and “G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080" y="464832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mputing, particularly w.r.t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m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he base-2 interpretation generally ap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9200" y="987480"/>
            <a:ext cx="4270320" cy="4876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685800" y="2514600"/>
            <a:ext cx="8153280" cy="1576440"/>
            <a:chOff x="685800" y="2514600"/>
            <a:chExt cx="8153280" cy="157644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325520" y="3429000"/>
              <a:ext cx="7513560" cy="662040"/>
            </a:xfrm>
            <a:prstGeom prst="rect">
              <a:avLst/>
            </a:prstGeom>
            <a:ln w="57240">
              <a:solidFill>
                <a:srgbClr val="cc0000"/>
              </a:solidFill>
              <a:miter/>
            </a:ln>
          </p:spPr>
        </p:pic>
        <p:sp>
          <p:nvSpPr>
            <p:cNvPr id="137" name=""/>
            <p:cNvSpPr/>
            <p:nvPr/>
          </p:nvSpPr>
          <p:spPr>
            <a:xfrm>
              <a:off x="685800" y="2514600"/>
              <a:ext cx="3657600" cy="30492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2819520"/>
              <a:ext cx="609480" cy="609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2819520"/>
              <a:ext cx="4572000" cy="609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86400" y="3962520"/>
            <a:ext cx="2666880" cy="1374120"/>
            <a:chOff x="5486400" y="3962520"/>
            <a:chExt cx="2666880" cy="1374120"/>
          </a:xfrm>
        </p:grpSpPr>
        <p:sp>
          <p:nvSpPr>
            <p:cNvPr id="141" name=""/>
            <p:cNvSpPr/>
            <p:nvPr/>
          </p:nvSpPr>
          <p:spPr>
            <a:xfrm>
              <a:off x="6248520" y="4876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/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urier New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6400" y="3962520"/>
              <a:ext cx="685800" cy="1066680"/>
            </a:xfrm>
            <a:custGeom>
              <a:avLst/>
              <a:gdLst/>
              <a:ahLst/>
              <a:rect l="l" t="t" r="r" b="b"/>
              <a:pathLst>
                <a:path w="432" h="672">
                  <a:moveTo>
                    <a:pt x="0" y="0"/>
                  </a:moveTo>
                  <a:cubicBezTo>
                    <a:pt x="21" y="87"/>
                    <a:pt x="54" y="408"/>
                    <a:pt x="126" y="520"/>
                  </a:cubicBezTo>
                  <a:cubicBezTo>
                    <a:pt x="198" y="632"/>
                    <a:pt x="368" y="640"/>
                    <a:pt x="432" y="67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3962520"/>
              <a:ext cx="457200" cy="1066680"/>
            </a:xfrm>
            <a:custGeom>
              <a:avLst/>
              <a:gdLst/>
              <a:ahLst/>
              <a:rect l="l" t="t" r="r" b="b"/>
              <a:pathLst>
                <a:path w="288" h="672">
                  <a:moveTo>
                    <a:pt x="0" y="672"/>
                  </a:moveTo>
                  <a:cubicBezTo>
                    <a:pt x="37" y="629"/>
                    <a:pt x="177" y="527"/>
                    <a:pt x="225" y="415"/>
                  </a:cubicBezTo>
                  <a:cubicBezTo>
                    <a:pt x="273" y="303"/>
                    <a:pt x="275" y="86"/>
                    <a:pt x="288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105520" y="11095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lab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ouble click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y Compu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Right click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ck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– multiplying p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mmon bases, add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8760" y="3936960"/>
            <a:ext cx="52250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65,53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6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64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66920" y="2209680"/>
            <a:ext cx="281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urier New"/>
              </a:rPr>
              <a:t>b+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Addition (1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1-bi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5805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p. 36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324160" y="2514600"/>
          <a:ext cx="4495680" cy="2587680"/>
        </p:xfrm>
        <a:graphic>
          <a:graphicData uri="http://schemas.openxmlformats.org/drawingml/2006/table">
            <a:tbl>
              <a:tblPr/>
              <a:tblGrid>
                <a:gridCol w="1498680"/>
                <a:gridCol w="1498320"/>
                <a:gridCol w="1498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7162920" y="4876920"/>
            <a:ext cx="1143000" cy="609480"/>
          </a:xfrm>
          <a:prstGeom prst="wedgeRoundRectCallout">
            <a:avLst>
              <a:gd name="adj1" fmla="val -109583"/>
              <a:gd name="adj2" fmla="val -55467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umb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714680"/>
          <a:ext cx="6934320" cy="3429000"/>
        </p:xfrm>
        <a:graphic>
          <a:graphicData uri="http://schemas.openxmlformats.org/drawingml/2006/table">
            <a:tbl>
              <a:tblPr/>
              <a:tblGrid>
                <a:gridCol w="1346040"/>
                <a:gridCol w="850680"/>
                <a:gridCol w="1565280"/>
                <a:gridCol w="1387080"/>
                <a:gridCol w="178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 by huma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 in computer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…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…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-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, … 9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B, …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Addition (2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dividual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e ca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607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0101     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 11001   + 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01110     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7991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47991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3600" y="3776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0" y="3776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on (2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, two 1-bi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324160" y="2514600"/>
          <a:ext cx="4495680" cy="2587680"/>
        </p:xfrm>
        <a:graphic>
          <a:graphicData uri="http://schemas.openxmlformats.org/drawingml/2006/table">
            <a:tbl>
              <a:tblPr/>
              <a:tblGrid>
                <a:gridCol w="1498680"/>
                <a:gridCol w="1498320"/>
                <a:gridCol w="1498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on (3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,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decim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2862360"/>
            <a:ext cx="304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1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x 10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11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11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1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001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700440"/>
            <a:ext cx="175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5452920"/>
            <a:ext cx="1752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o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438280"/>
            <a:ext cx="617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.1011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.06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.1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2.6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6483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mal to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1337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.145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596960"/>
            <a:ext cx="1485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1457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2915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5831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1663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3326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6652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   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330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8080" y="216216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58080" y="271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58080" y="32716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58080" y="3825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58080" y="438156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8080" y="49370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2514600"/>
            <a:ext cx="9144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51460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1752480"/>
            <a:ext cx="3429000" cy="609840"/>
          </a:xfrm>
          <a:custGeom>
            <a:avLst/>
            <a:gdLst/>
            <a:ahLst/>
            <a:rect l="l" t="t" r="r" b="b"/>
            <a:pathLst>
              <a:path w="2160" h="384">
                <a:moveTo>
                  <a:pt x="0" y="384"/>
                </a:moveTo>
                <a:lnTo>
                  <a:pt x="1440" y="384"/>
                </a:lnTo>
                <a:lnTo>
                  <a:pt x="1632" y="0"/>
                </a:lnTo>
                <a:lnTo>
                  <a:pt x="216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.00100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2590920"/>
            <a:ext cx="0" cy="2590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28600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2736" y="0"/>
                </a:moveTo>
                <a:lnTo>
                  <a:pt x="2304" y="0"/>
                </a:lnTo>
                <a:lnTo>
                  <a:pt x="2064" y="432"/>
                </a:lnTo>
                <a:lnTo>
                  <a:pt x="0" y="432"/>
                </a:lnTo>
                <a:lnTo>
                  <a:pt x="0" y="1824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05600" y="220968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5600" y="275904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08840" y="331488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02360" y="385776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02360" y="440676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02360" y="4959360"/>
            <a:ext cx="15228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87680" y="4572000"/>
            <a:ext cx="3352680" cy="609480"/>
          </a:xfrm>
          <a:custGeom>
            <a:avLst/>
            <a:gdLst/>
            <a:ahLst/>
            <a:rect l="l" t="t" r="r" b="b"/>
            <a:pathLst>
              <a:path w="2112" h="384">
                <a:moveTo>
                  <a:pt x="2112" y="336"/>
                </a:moveTo>
                <a:lnTo>
                  <a:pt x="1776" y="336"/>
                </a:lnTo>
                <a:lnTo>
                  <a:pt x="1392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ies/Counting (1 of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1371600"/>
          <a:ext cx="3885840" cy="4538520"/>
        </p:xfrm>
        <a:graphic>
          <a:graphicData uri="http://schemas.openxmlformats.org/drawingml/2006/table">
            <a:tbl>
              <a:tblPr/>
              <a:tblGrid>
                <a:gridCol w="2119320"/>
                <a:gridCol w="1766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ies/Counting (2 of 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09680" y="1371600"/>
          <a:ext cx="3276360" cy="4538520"/>
        </p:xfrm>
        <a:graphic>
          <a:graphicData uri="http://schemas.openxmlformats.org/drawingml/2006/table">
            <a:tbl>
              <a:tblPr/>
              <a:tblGrid>
                <a:gridCol w="1787040"/>
                <a:gridCol w="14893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ies/Counting (3 of 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09680" y="1371600"/>
          <a:ext cx="3352680" cy="453852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ion Among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25480" y="476172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20760" y="251460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560" y="251460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20760" y="467676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33920" y="3076560"/>
            <a:ext cx="1676160" cy="175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733920" y="3076560"/>
            <a:ext cx="1676160" cy="175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29400" y="338148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33048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84796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05764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Decimal (just for fu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5480" y="471384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20760" y="254952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560" y="254952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0760" y="47116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447920"/>
            <a:ext cx="990360" cy="977760"/>
          </a:xfrm>
          <a:custGeom>
            <a:avLst/>
            <a:gdLst/>
            <a:ahLst/>
            <a:rect l="l" t="t" r="r" b="b"/>
            <a:pathLst>
              <a:path w="624" h="616">
                <a:moveTo>
                  <a:pt x="240" y="616"/>
                </a:moveTo>
                <a:cubicBezTo>
                  <a:pt x="240" y="616"/>
                  <a:pt x="0" y="88"/>
                  <a:pt x="192" y="88"/>
                </a:cubicBezTo>
                <a:cubicBezTo>
                  <a:pt x="248" y="0"/>
                  <a:pt x="528" y="0"/>
                  <a:pt x="576" y="88"/>
                </a:cubicBezTo>
                <a:cubicBezTo>
                  <a:pt x="624" y="176"/>
                  <a:pt x="500" y="506"/>
                  <a:pt x="480" y="61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2362320"/>
            <a:ext cx="6019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 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 2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343400"/>
            <a:ext cx="990360" cy="762120"/>
          </a:xfrm>
          <a:prstGeom prst="wedgeRoundRectCallout">
            <a:avLst>
              <a:gd name="adj1" fmla="val 51282"/>
              <a:gd name="adj2" fmla="val -145208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143000"/>
            <a:ext cx="1295280" cy="762120"/>
          </a:xfrm>
          <a:prstGeom prst="wedgeRoundRectCallout">
            <a:avLst>
              <a:gd name="adj1" fmla="val -41421"/>
              <a:gd name="adj2" fmla="val 107291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14600" y="2708280"/>
            <a:ext cx="0" cy="129528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13:05:28Z</dcterms:created>
  <dc:creator>Scott MacKenzie</dc:creator>
  <dc:description/>
  <dc:language>en-US</dc:language>
  <cp:lastModifiedBy>zohair</cp:lastModifiedBy>
  <cp:lastPrinted>1998-09-16T11:34:06Z</cp:lastPrinted>
  <dcterms:modified xsi:type="dcterms:W3CDTF">2005-09-08T15:06:17Z</dcterms:modified>
  <cp:revision>123</cp:revision>
  <dc:subject/>
  <dc:title>Number Systems</dc:title>
</cp:coreProperties>
</file>